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296C-D708-420D-BDA1-FD1F10B78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6CED-5A27-4CAA-80CB-B86E3871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BDE06-A255-493E-BE33-D1E75042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D7C9E-F064-4C02-80F9-E1168C63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23707-B518-497D-AD6D-5DD58136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61F6D-204B-4BCB-9A37-6BF047EA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67E29-BF8E-4A1E-9322-AD226F9C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674A8-34B2-45D3-8DF6-2AB36E2A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D2E2D-1BA8-4696-89F9-6667C203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DC595-66CA-43EB-8DC4-059C7FBC6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A3454-4C20-4582-854E-494C762FD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CA431B-E01B-4D0D-BE4A-1486D6C38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6D2D-8C37-4BBD-A441-DDE2E48F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AF6A37-B55F-4EB5-AD82-1AC24157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79932D-2CDC-4C29-9F64-1053A59C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74207C-A1B4-4468-9A75-A51FFD9A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C3E39F-A331-447F-84F9-B42EBF43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934AFD-56A1-4F60-9333-209CE22D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6ACD78-D8C7-4738-9026-D5A7BA23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1CEF4F-E1A9-4BC4-AAA7-A1C8F360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EF2134-9B3C-4E20-B0B4-F4C97C17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CAB868-8AAB-4DEA-8118-CCF7EE2A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573C78-943B-42C3-8B48-C1EEBA9CF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9BFF-A9CC-4DD8-A04B-C5A8B8FD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4F6812-F702-4BD9-9FF4-942909E2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B693D-05A6-4DC9-822A-14952A8DB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E54AB-6245-4E1B-81F4-49C7501D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9CEAF-E719-4702-A499-F708D5E5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25E1A-D2A7-4DF0-A97E-DA4D77D2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D897B-C673-4D68-B65F-291CEA12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53003-72DF-480C-B290-3E4ADC08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4BCA7-8FD8-4687-936F-F780C195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AF5A3-EEBC-4B40-BCFC-37A26A82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EE92D-18AE-4C77-95A0-6CA92241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2E41-446C-4D3E-8646-0995340B3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D1AD1-36B7-40BB-93D9-19776558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BE881-920A-4F60-AF58-1B2DD0E6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6812A-5D4F-4E25-9D50-0A2019A3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351C2-57AD-438A-846F-9EB33AD9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582FD5-0F25-4624-8DF5-29F348FC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CB63ED-358C-4A2A-AFC8-DDD87139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5DD2F-B12C-4671-91F7-178AEAD0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6ED1C-1B3D-4FD1-98E9-EE466ADB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972D1-39F7-4CE7-AF07-79D781F4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2E9775-BF2F-4328-A933-B29EB3A1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502B-83FE-4D97-810D-6EBA506A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E4A0C-3D7D-4441-8FB4-AC17DB95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E9903B-CBC5-4641-BDF3-B42D7CAA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ED05F-7A7C-4FD5-B03B-5FD71B23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A1E50-68D7-49B3-BA81-B8859633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58686-9110-42AB-AC06-7FAC11D8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3896-1452-46F8-8EB4-6EA38E54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6BE4-C436-4283-82CC-8039FDD2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6DDF-C481-4D96-8B71-FBD81AC7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9C45-A0A1-4421-A15D-E8046743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4A6E-5333-4706-B493-5ADEFCF8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69C2-18FE-4CB4-99D5-90E67C12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AFCD-6B6B-4E6C-8A68-60867447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3012-5CF2-40AC-B337-53D45A5F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ACE3-ACB2-4CD3-9D50-01416701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A3AE-37EB-424F-B99D-E8C890D47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363A-EE4F-4E19-8D5A-5D2B408D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AA13F-93CA-48D7-81DB-20A44857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AF0E9-21E8-4835-8E71-AC88FF50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A1E34-AD96-4192-8D05-3884C8C4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301B2-1C23-4025-A106-111C0E78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FEBA6-EF40-4F1C-A04E-2D6C39BE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F2F4-0E25-4B3C-9C06-2ED54151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17993-D346-435E-886F-A3B1E16F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2B1C8-7488-457B-8EE2-01D7B0B3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DD203-328E-4A13-BFC9-C8196FDB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E5984-8E8A-4031-A3E8-97CA9F70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02F5D-11F5-4977-A5DD-30986AEC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458BE-E437-44BD-80B5-B13EA857A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4D356-CCF6-4889-B605-00A86E74C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6B8BA-F857-464C-B036-01CE6616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7B452-794F-4FAF-8A66-CD7E6008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2959F-CC3E-444C-BD1C-0C888541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8299-5A24-4316-A0C2-A25839E9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AC8B6-77BB-4A75-A7EE-E577DDE2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7DDDE-AC6E-40FB-8887-50B81A40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A1857-7578-4542-8E0F-35C2F948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BB5D6-6A22-411C-B4BC-5975AC14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73970-DB51-4A04-A28D-1FDCE2C5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F498A-C80C-4F71-A1F2-2824C69B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7677A-8AAC-4433-BCC8-922095AC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422C7-E71C-410F-9841-0209C5E02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CBCC4-B72E-4D1A-AA8B-9BE37071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369852-0C96-445F-BE5E-FD623E55F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620A-097D-4E6A-9B08-127D74A3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5DA9A9-23CF-4BC9-9B77-59176A1C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FECF7E-0223-4098-A58D-653F921A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8CF225-A9E1-4E29-AD20-534ABBD3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771333-F9D3-411B-A9A9-72F6AC4E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01B05D-779B-40B0-9362-28528324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F09B39-DBDE-4791-A151-9AB76611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451232-3A1B-46BD-8E89-85938D8A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0BB7D3-795B-4625-98B6-F8BCFC39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7A72EE-1037-4F1E-8C9E-59CA5AAE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654561-8221-478E-B566-F9E4027EF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0D7F-CF52-4C25-A7E2-8F45F1ED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CEDECA-A604-4623-9352-2084BA5E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CBCDF-8F36-498C-AA39-2A81B6969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1D9C5-0ACD-4841-BE50-CE66928A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B6089-1A06-4A5C-A668-3BA5BDA4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73E53-22C6-400D-8765-83B81424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3B647-D350-434C-8432-016D2B38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B8C55-4D95-447A-80D2-76D89D5B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C480D-304E-477B-B597-AC40C0B3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9B851-562D-499C-92D6-9A5448D5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DF469-C50D-4971-A399-0FDE782B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0CAE-C1DB-4F94-94A2-37F7540A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B8DC0-9B33-481B-A5C3-174B5282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21A27-A221-4531-B611-669C943C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165EA-B90A-4B48-BC37-8961D9AA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E1F87-36CE-4F0B-85E7-CDD4B7C1E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EFA9E-8E88-478B-AA73-214E1C15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90F1D-42B7-4D82-881C-40CF9CE9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60288-4CDA-41C3-8033-1185E5E6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78930-049D-4583-88FA-9C01836C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5947D-6F15-49DF-A77C-7604CD5E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0A21E-7F7B-4DA7-A1D7-6E7D7549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9ED6-2E09-4A1F-911C-0B6A2025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A08CC-FA6F-4DC6-9C78-071FBE8D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10219-1102-4F7A-B08C-1F112017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3C79A-6014-488E-B2F8-E94BDC54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FE24A-E8E3-4374-8EDD-2AADC20C7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CBFB8-AA29-46CB-A157-7C2F91BA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5448E-DBF9-4410-ACC2-7D5A7B40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D317F-6D2F-48ED-AFFF-BD824A30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40B2D-14C3-429B-A203-9DA8F14D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0CE24-D511-453B-B3EA-6AC08C81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C73F7-F339-4513-BAB4-02F34529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FDBF-5A80-4378-B1A5-1BBE3149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E366F-F4AF-4604-B706-26634B51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9000B-327B-4F44-936B-EE7A2CC7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73A38-7537-40D3-B12D-95A0A5D3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B327F-E2D1-4AF7-9FF8-343B6DBA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41C47-4A3E-4571-A169-3DDCDD44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6DF75-8B0D-4195-A1B4-E2AE8238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92395-AE93-48AD-AEDA-653D4B47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FFEFA-1357-4420-B7A4-EF243EFB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10F21-0087-40FD-90A0-BDD15AA8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9A4A6-C3D7-42C6-B612-3C27B40D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B29A-C7E2-4090-BCFF-0FDF90D1166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1D29-18BF-437B-976D-48CBE573BAE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409A-A050-4F74-947B-7A447200710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2996-541B-4BCB-BAE8-6A26316B3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1D20-605D-487C-950D-0F7465C4F392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96AA-009C-411A-9F1A-80C27211CB9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1D02-CE9A-4BA5-92C3-B9746C34127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96BC-D0B8-4708-BCE0-B010A9D9EAA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E840-5AC9-4552-ACF9-432566E6F88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1D16-4F3C-407B-97DA-253024F35A8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8226-A3B8-467F-A4DE-B7E845405E4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8796-9AC2-4D4D-A5EC-13D2DDA16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5703-88D1-4512-B615-DCD1F69E9BD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2B4E-6D47-4D3F-87F6-E500042B3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3F53-5A04-4EB6-B364-79E0A2FC3A9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0C58-7F0B-46EB-9796-7F06C51D743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9A3F-6825-4311-8447-083DD4068BF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E101-8544-4CB0-A5E5-2226E6E0A04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8E1C-5F17-4DB1-B9C9-216B29055E4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0643-65DA-48EA-B3D4-AB5DE82B9F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8E86-ADF2-40A1-8FAA-0EC54B3D5DF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06E6-A333-44EE-9777-729E6893A7D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E127-A78B-4698-B9DC-03832AAB415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595C-C327-4C94-B337-E57E22E06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6A00-6E0E-4042-A44E-9C8B3E30A1A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2FAE5D-3706-4BA1-86C0-B8ECA5DC210D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0F3CC-C6AA-4525-A7B2-24AF6AA502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76FECE8B-FBA3-49D4-9BB4-75D376FE22B8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36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84C2B-ED0C-4BD8-8135-282C574E8425}" type="slidenum">
              <a:t>3</a:t>
            </a:fld>
          </a:p>
        </p:txBody>
      </p:sp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E0285D-16D9-4B3D-A887-970B58EA280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7AA67771-B019-4702-8E57-3C73D0E996F6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4B330-84EB-4841-8F82-F57AEBA975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70B38C8E-8091-4FDE-9A8B-3160CDCEC81B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2A051-5D14-4DF8-B204-3E765718C1C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C64258E0-0C22-450A-8EB3-19D920109DBF}" type="datetime1">
              <a:rPr lang="en-US"/>
              <a:t>07/28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