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FCD-265C-45F1-BBD1-468CC281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19E-6C92-4848-B437-4482B6B7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F4D31-41CA-45A4-8B0B-CE00594E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CE53F-C418-4D18-93A2-F993D584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CE383-F60D-44C4-ABC9-C4551231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5B7BB-B857-4B1E-AC4F-FEC45918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1B601-652D-4776-80E1-B4C8DFED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7E7DF-478B-476A-8C6C-3479BAD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06D4F-3AFF-43AC-8774-EA8EA858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4F660-0C2D-4F8F-B453-7B7F478D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2584A-8578-475A-B869-B3A5CA35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2EA206-1E42-4CB1-9E22-059BBB0A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4E4-098A-4351-BEE6-358DBFAB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45480A-DEF8-4F4C-A6A4-DC92BACB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13F34C-BA92-4413-B698-1195104F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A1D342-0C2C-4711-B98B-E964C15A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E7EC1B-44D9-48D4-A706-531548C3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9FB8E4-2467-4BDD-ADE7-C07692AB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411D34-8957-413D-9769-7C158388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5C9490-37CB-464D-B74C-45DE6720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DA9249-0F26-47D8-88BC-B614FDA2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65A95F-094B-410F-9967-BB67A4EE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628996-385F-46CF-BBE6-D897B07E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663-925A-4748-9515-3DBC6CED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991E9B-7074-467D-8929-BA591FA5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01CEC-C430-400A-8AE9-B50C3603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35885-DD62-4CF1-8466-A63D8005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02037-A57B-44E7-99C8-AECBF1F1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EA106-99D5-4F66-8831-44570759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28777-9C73-4A53-9AA7-0836E9A4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47BDE-EC47-4CA8-9A83-A3329C8B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37E9B-A661-40B5-8269-C908C168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51DB2-6F57-4DE5-A2D4-AE78B5EA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A227B-D470-413E-BB42-570DCFBB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A444-E851-4FC8-A153-6B59BA14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05810-8D0D-487C-9799-9C25058D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1E90D-36B7-4CB2-A98E-24B5BB7D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49414-0532-4123-96F3-431937D8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097F6-5B9D-4671-A2B2-6F659344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B0937-6F9F-4241-9EE0-42AC6F6B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15255-1676-4D69-A428-7242AD69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07C78-981F-4E38-810A-5DB1590C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48343-CFE2-4893-8DDD-011EBCD6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29DA8-7CDA-4C88-96BB-B68995AA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4B5CE-B1B2-48D2-9E51-2B1CCD3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50C0-8A0E-4A7F-B0D6-92762398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E33AF-1B80-4E56-9A2A-FAF0122A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BE655-FBE4-49A9-B9E1-948F44C0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EF899-7712-4363-BC34-409B6D0B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5180D-F2B6-4903-95FE-39E79748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1B544-6293-4968-9C8B-5B8EBB70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D99A-32DC-46A4-94B0-374ADED8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ED18-C0A1-4E77-B56D-E237973B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EE74-9501-4EC4-8FBD-DB09DE4E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BE4A-D334-4BBD-AC87-DF6707AF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69F9-1F70-4AB7-A100-706EB477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5951-0B9F-4B3F-9FA4-0550E78D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8634-E096-4095-A7E9-BF8CD9CC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ADE6-C653-4E9C-852B-B9DD7B3A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D403-02A0-467E-8367-3A22872D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8E27-3F83-41FD-B745-2FD522A6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D5FA-DEB7-4EDE-AC06-207CFF2C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C252-799B-4880-A6BD-34DF69FD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67628-A56D-4DE0-A680-54CE2728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AAB0-8AC5-4205-BEC1-70DCFDC7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7BF3-DB0E-45E1-8A4D-E4397EDE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0FBD-9524-4AE4-BF92-4DB6666F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B07-EF5B-4E74-8963-0C1D6882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40F0-8088-46F2-AFE0-0ACA3BAD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03CA-4812-43DF-BEEF-5DF6A793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3953-EE2A-4E32-BBFD-63D56070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3161-2E49-49F2-9617-19A08C62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6918-90A1-436D-B43E-017295CF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A2CE5-3DE2-4EEB-833A-E7F5D2D8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830A-1CCA-4D48-BB89-3C979693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1DD7-D8E3-45C2-892F-85567FE5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5CF9A-F6EA-41F0-8967-356B2EB4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76498-98C4-4C4F-B027-543DB4AA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B77-0242-4CB3-A99C-2F663D35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E4234-92B8-43F6-8636-67EE4481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949E1-8F2D-4DC6-B2DA-E61DFD17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9E466-806D-4610-BDB5-51150616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F32BB-D9B7-40EC-AFAB-CFE0912F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843F5-E805-4600-B28B-8ABA5C6C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04A96-3365-4FA1-B9CA-B9FE75C2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A565-C834-43C4-8ED5-76955091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3E20C-A7F8-4302-AA1E-0AA8357F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D616-48D4-4D8D-A715-94E79978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AD188-2176-48F4-B396-E427A4AC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5D1-F215-45F1-9138-A586B753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4497A-CC58-496B-8C55-21F620C7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86E5D-3EF0-46B1-9A85-66ACDAA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D70FF-6D11-4224-AA49-08E35CBD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2D75F-41F3-4EF9-8E05-8C61A55F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BF8B9-76A4-4A0C-A5B7-FE19285A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9040E-D156-43F4-860F-96F32E65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50A14-6182-4A5C-BB1B-1A8AB82E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0B78D-80BA-4CC2-8932-6CBED422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338A4-85B2-442A-8919-811B3B26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A85FA-7B07-410D-A879-9AFDE234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0A3-A71C-4CF6-9332-654ED108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8BA04-401E-4903-A66E-4A727C10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6DA37-8E3B-4E49-8E39-619A2285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4D46B-D031-41A1-97C5-A3707260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B5B6D-44FF-4BDB-A736-8BFF5BDA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E5752-2830-40B8-8C05-88ACF7ED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484C8-60B0-4807-90C2-91A9297D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46A92-6950-47CA-8F26-431C76FC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284EB-95F5-4F9F-A942-7EBD183C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A2356-A732-4905-A182-70681A8A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BC1F1-885C-498F-B6D2-98191B3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60C-FF71-4F1A-9F48-C9B58B8E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4E119-B0B6-4289-BE62-6F6CF989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896EA-F5A7-4A29-A55A-5BC32071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C19DB-C4D1-41B8-8B68-C8BD93B7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5AE3F-BED7-4A9D-8F7F-BFE19E7C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0551C-36AB-4611-92A6-A6B70E84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166C8-A93B-453D-8356-ECEE3798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5A009-6A0A-49A6-9ABB-9F220C52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95365-38D8-4233-A4D4-EA19E8C6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333A2-B292-4FAB-9C52-2CB1AEFF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5646C-5FC7-46C1-8CDB-E685F9B7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03B-2045-4BB2-84CC-65B3BF47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DD943-3E48-4901-A65E-51E622C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4F00D-4B0C-4492-AEA0-564E621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E081E-4E36-4323-B5CB-B0AEA79C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E19E6-6E8E-4415-957E-B4BE5E3B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11D0F-3D8F-4B99-9D12-F2A97832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97A18-ACF5-47C8-89B1-C9AB8541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A86CD-FE83-4FDB-96AB-BC4AD6F3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53530-B4A1-4E24-9621-74AB5199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5C98A-A70A-4890-AFD6-927CB445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379F0-6290-4142-97F5-297C5EED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5C1-9E97-4FB9-AAE6-5BBD0DF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D4C43-778C-49E3-B067-A8093797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1C9B8-FA6B-4C5F-A855-5B5C212C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87280-42B2-4C81-8BB4-5F188565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ED0E-A781-49C9-B2E9-4CE4D990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80EE1-8FC3-4821-9E36-C07AAE49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4985E-8D69-4D7C-866C-F7E146FA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BC01F-FBA1-4D26-BBAD-489A3010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00143-748F-4A54-90B3-20DEA672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516A8-7D6C-40B1-ACE9-93C45E8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E126F-7652-4FCD-BC35-18D61722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F19B-AF04-466F-BC7A-24D449C2506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2513-C055-4D15-9A57-D815F95A62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471F-D2BE-4C8D-BE37-C2DA22CC484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921E-DC8E-4AEE-88E4-63633D32F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A721-3F8B-4CF4-8C0C-07BC2B0CAD8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99A2-D304-458F-973E-986B37B1A20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89BC-9D91-4640-B52C-9D72AC8B06C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C1E2-22EB-4298-B63E-B43B6047A47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F024-2AF8-4AD6-8F43-211E1E05DF9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F28E-2383-45F9-9B17-F7876406BF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AFDB-017F-4546-8C38-85A2B8E15F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C90E-DC70-4E3E-BAD0-4462FD257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8F4F-B919-451F-A60B-60099B8B6F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A5E9-FF65-4E8B-8A7F-1FD6A78C8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3004-BCE8-43DA-ABD2-95BE2BA00E0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EE51-9183-4D71-9F6C-A105A9AEF5D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061-3998-411A-9F69-394DA2A5613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F6AC-AC2F-4710-A419-B46F5A5309C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15E2-6A79-4872-828D-2EFCBA9E211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C811-B9DB-4D63-80DC-116363B914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DCB6-B37A-49CF-9F79-F83CF416E20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A908-0A7F-4860-A68D-9112A1C1A74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F7D4-B97C-4AEA-8F88-1F35637D4C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C683-3B99-48B0-BE0F-92E67F282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654-67B2-4CCB-87AA-55D159CBA5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2B23E-3EEE-44CC-A090-9B8835E6AFFB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E6BE5-6339-4A8A-A953-F9C1A50F7C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7ED2BAF-AB31-4076-80AF-8E6BFDFE0159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3A6CD-49B2-449E-9A1C-1060051FEE30}" type="slidenum">
              <a:t>3</a:t>
            </a:fld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E0DF2-2A3B-47BD-8E89-74776300B71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5A38303-0F4B-4063-967B-9339F1E21E2F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3C3EA-92E4-4E4B-AA49-40B393445C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C0CAAE1-2A92-48E9-94EC-ECDA06BC0B6F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8633C-CC69-4AE7-9212-AC1774E7F9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F182F8A-A4EF-48EE-B127-92764E167E04}" type="datetime1">
              <a:rPr lang="en-US"/>
              <a:t>07/28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