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B32ED-7B54-4CD6-AF9F-EBDA4A5DF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AB91F-E1AE-421D-90F2-4A8C10F24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AEC3A-600D-4171-A131-390E0EFBD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06CDA-7222-4EF6-B3A4-96C7E26DB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6E326-4622-45D0-B5FD-FDCD55273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00097-0F56-46CD-B2C0-957F79A2F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FF631-6890-4376-B837-140A814DC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3A294-C044-4294-A370-8BA91AAE9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48E06-230A-41B0-960C-424B9F96B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C5946-B4C7-4F22-B7F2-6D093A52E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D28FF-79D4-4417-B495-B0B4B99DD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1F059-8E42-47C3-8C58-CC72125A3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6D926-ACB1-4A7B-8AB7-5619CA16FAED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44964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10656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34920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Vertic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Horizont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uble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965680 w 7197480"/>
              <a:gd name="textAreaRight" fmla="*/ 4231800 w 7197480"/>
              <a:gd name="textAreaTop" fmla="*/ 1482840 h 3598560"/>
              <a:gd name="textAreaBottom" fmla="*/ 21157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5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8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16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2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32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148920 h 35985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21:57Z</dcterms:created>
  <dc:creator>tb121644</dc:creator>
  <dc:description/>
  <dc:language>en-US</dc:language>
  <cp:lastModifiedBy>tb121644</cp:lastModifiedBy>
  <dcterms:modified xsi:type="dcterms:W3CDTF">2005-05-25T11:22:14Z</dcterms:modified>
  <cp:revision>1</cp:revision>
  <dc:subject/>
  <dc:title>Slide 1</dc:title>
</cp:coreProperties>
</file>