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A95-DCB5-4EC4-A0BA-3E4A77B5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662-EB6E-44A0-8FE1-63481B09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BD8DB-5BA7-421D-B3A2-21DE567A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57FE2-356A-47CD-9144-9EFC8D3D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6356D-9714-42A6-BD2A-0EC75222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D69F1-B8AD-4E0D-B8DC-7FF8DD2F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8D424-C7CC-4296-9B05-A501D119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D568D-C180-4878-A5BC-CB1BF779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C41DF-BF11-4614-8008-9BAF05C3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B9256-051D-4CF9-AF7D-06AC29E6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419C9-9AC2-4FFC-A045-D8AAE381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18B0B0-387E-40EA-8110-0C40C863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87C-B966-4493-A0A8-AC2DC433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846C60-BFF5-4B3D-B2F0-EB70C9C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24E442-905B-4D34-9CB9-FDBA9C75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38BA73-B9A1-46EF-995C-588644D7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0F8E4A-8C94-46E0-A208-18BCD50F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3EBF9F-3475-4FB1-B7F4-E217F41F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CE7713-18B2-477B-932B-15F39E3A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0A7507-BA0F-4F1C-9896-4F43F3E5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38BBE7-19F4-4664-94ED-C5A8DC19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AEC055-E77E-48F9-8339-FAF7676F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37EB31-FF74-4CBB-B85E-26972B8D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28A-8060-48C3-8927-F30A5BCD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2B43D0-1015-4DCA-8DE0-DB011DBC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6A336-8805-4E68-AA1C-47003927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10C53-3AA5-4FAC-A668-AAC3B84A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A8C21-2EDE-44AD-9940-E5460F4A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6ECDB-D2D9-4866-922E-CE4547D3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F5F88-338A-4DE4-B28B-729D4128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7A48C-42D9-4268-AE7A-AD3CC0B0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DB284-5591-42C2-94ED-313C2958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A5C6D-82E4-432C-B7DF-CE90130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671C8-99F5-4F11-801F-D8AB6214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500A-FFCB-4D94-AB55-B3F55191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A174E-84E8-48F2-8E9D-CC521CB1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05D47-1484-4066-AB6A-08B4AABB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9E0EA-6980-4B08-B67F-5880EC7E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A2AB1-134D-4909-8C73-EB3DF8B1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F645E-7444-4C49-9245-2141060B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DB6FE-D2D2-4F6F-B07C-F782FB7B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DD179-313B-48F8-939A-028EAE4C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094DB-EAD2-42EE-AB76-A8A4017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21615-DB04-47E3-B8BE-D04533A5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FD68C-EA1D-4D76-97C0-CD99849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335A-9DE4-4702-AFD7-B35ED081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AE2E0-C415-4216-8F29-C9C60BD3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231D5-5B63-4EC4-BBE6-3136B473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28637-D905-4C35-BDBF-F40B3BF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0A089-8356-4DBB-A6CF-EA01298B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F6ED6-E168-4D00-A97A-3F5B77B2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B86E-0340-4E86-AFC2-7877B066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0D1D-0E5A-4DAD-8AB5-634C7F71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3FC3-E3A4-4D16-92C3-E8DC73F9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A65B-BC8D-4907-B493-D0768830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DF9E-F4D0-4E3C-B4C2-D9B8C98B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697-A4A8-49B8-A32D-DB44C90C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5BAE-FB21-4217-8178-80ACEBA4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B150-06FF-49B2-AE3A-4AFDB620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D567-D573-49AD-AE2A-AD5FA92B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31EE-86FA-4724-8F54-22AC4222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B0AA-4D94-43B7-8645-DB3E9A84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ECAF4-3340-411C-9D7D-C85F3B15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3AC0-FA96-4E3E-BFC3-37D2B9C7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62D0-55BF-47D4-B300-57865E47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0A3A-18E1-4CB9-B0DF-6A1B740A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DE22-E94F-4987-B783-84E6CCE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3DC-DD97-4BFE-B9BF-D637DF50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5A21-3DEF-4694-B08B-668182C5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1AB2-5748-4066-B790-99BEFC7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6A7A-C254-4C44-8BC2-271C5DE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6690-9A72-4CFB-BFA8-F3AEC4E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9347-2140-4209-8020-F61FBEEB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142B-72F5-4A82-A568-3F1BD8C1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1533-4B92-4D18-9636-4D13C6F8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94441-2121-4CBE-B892-4B4CEBA7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0C2C-00B3-4C60-9D97-A7EC8F29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49C34-ACB8-43BE-8272-F19DF500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F61-4E53-4663-9F20-BAA6EE1E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2DE8C-D2DE-428C-AE1E-C37F8A17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8BE85-075E-41BE-A65B-5D5716E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E4C85-027B-43B7-9F9E-84468B1B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48793-FCCC-453D-969F-F281F7B4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A997-10F1-404F-8FA7-DC603AE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38D3-9E57-462E-803D-AC372490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FCDF-BD55-4C2A-A441-E9A5ADED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941B1-0595-49E5-BC15-2B212386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D148-2ABB-451B-9BEC-4ECE9C0B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AD1B0-0600-4FB9-B97E-9A1C2F80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207-500D-4E44-B88D-C0C1F83C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AFD00-31EE-430A-8559-E920FD9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57FCD-8702-46B4-9BD7-781BD192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32F71-1F26-4159-B8E7-2E6B1E6E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2DE4B-3CC3-4C59-BA83-46867E91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55CFE-0614-46BC-800A-129A00C0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4A29C-309F-4F70-8658-D6E1A922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7D56E-4931-4AB8-90A5-3603442C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A123E-FA1D-4B58-856D-1D54B7A7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4340B-0CD0-436C-B23C-FA057CD7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3AAA7-20D2-44BE-90FC-E9C026D0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28F-0860-4FF7-948F-2F198D3D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F05DD-DF89-4C60-8EB0-E6583393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5E0CC-19CF-4EC5-BD68-9B6F49CB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2C3FF-8511-4D85-924E-E923D473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799B-BD29-4C28-B54F-93893E8A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07FEE-644B-4D04-BAEF-FC1CC51A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7E423-8B1F-4C0B-8FAC-08F31A03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8D6DA-04E4-4961-BD94-48DD5C94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ECFBD-3DAB-4C26-A13B-6106313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32561-27F5-4CBC-9BF4-A858A84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5CDEF-E38B-42CB-A14C-D7702D2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59A-C737-41A7-B49D-8B5F5BF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057F7-2F04-4216-AF31-7CFB8CCD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590DE-A479-40B5-B44F-E1B3EE92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629A-A986-42AB-8475-A1F4F6E5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20D5-8584-4380-88E5-50BFCCE0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497A8-F969-4D68-B546-110B83E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F7F90-3EBF-46B7-A63B-9569AA92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28E4-24C5-4AEE-9C00-B5E88C9D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8FBC1-308E-4C8F-AE11-5D93D7C0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F72BA-5EC8-4C20-8ED9-A14D0D57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71B37-18C6-4F1E-9257-50A6D02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B30-F221-41C2-A657-D1FDB6C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6F3B8-1CA3-469C-90FD-6569AB75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A8DAC-A704-4569-B2E5-48C403E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6F717-4965-4AE5-B76F-456CC86D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5B86B-6DAE-4649-A287-1F8C58DC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5BA73-6240-441D-8BF2-82246F94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56371-2E52-41A5-8F77-B88D56C2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8FB2B-0A8A-4581-A010-E28BF301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5A825-0C1F-4501-9C8E-9F245906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FD945-63F5-4EF7-8BF0-0A36D2EA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FDD35-D70D-4604-B607-95B00857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282-0D45-4B72-BDA0-50E04158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53AB4-B7AC-4471-83CB-D52FDCE2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933E-E541-4B38-A12B-DFF2F2A6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1CEDD-5F4C-4771-9DA2-0246A130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D1501-C810-4253-BCEB-C0D172D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AB4E8-2940-40D1-AA23-714AAC7E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7E2DE-D4D7-4AE0-86D3-9E5812B3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1B3BA-7B58-44D6-86BE-99EA901E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DDCA6-3A3E-475C-8AA8-DFF13B52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C3ECF-015B-459A-89E2-30C8D0AE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AA5AD-8B96-4605-A6DD-977B2DB1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278E-C130-47C1-9A9B-54E327E1012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B70E-13CF-4FFB-BF85-6997505496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9F15-72DC-4160-B856-E0F2FD7DD4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5342-5FF7-480B-8BC1-A71705DB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BAA0-AA8F-4ECF-A176-D417300C07F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6144-F3C9-4F1E-B50D-50AB95C663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4AA2-B7AD-43A7-967B-BD8D22E347B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DC56-7513-4AD5-B6D5-E671A686A86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45FF-8828-44F7-BF64-88484C3FBE8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5625-6D31-4925-A7ED-EA091601AF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58B8-CC10-4913-8006-8A3DA82DE2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6E5C-776B-4943-BF4C-2CA37CCDF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630D-77A9-45D9-A9BB-451FE1E194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5D6E-D15C-4E97-93D5-3785FFE09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0C14-5EA9-40B9-8590-73EA835185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F5F3-5B7A-4D2E-A006-15DFEDE635F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A0B2-0401-415A-890C-43B4DDAE797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AB2A-6BDC-4378-96F4-F8303FC4015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DA96-8E3C-416F-A6DD-B1C662C54D6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902D-2C18-40AB-A845-D0F796CE46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3A8C-D626-42EA-B068-EAC1ED5700E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5C43-29C2-4F75-8288-BF5908C2227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27E5-7A7F-4527-9CC3-034127DEBB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923C-9CBD-46DE-AD24-7FF23D51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134-C8BF-4DB2-B8A8-9D25448269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75ECD-761E-4E69-804A-5B69EFE4438D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7E6BF-A617-4E38-A828-84EAA39C2E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71591D5-A454-4779-A0E3-0E036CEFA4BA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8" dur="123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9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1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CE29-F257-4914-9787-F567E6D3CF46}" type="slidenum">
              <a:t>3</a:t>
            </a:fld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E12B3-E8A4-40FA-B8E7-63862AFB195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B32274C-9C7A-4DB5-A680-E3A300A4C11C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100C0-01A1-4B1B-A31F-FD92087D15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F213B64-677C-4008-8CC4-DADF8E2686FD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CA882-1956-4C0C-8C4D-BB7E481C86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20A8974-BE4E-4683-A3C4-9ADA6B1AA32E}" type="datetime1">
              <a:rPr lang="en-US"/>
              <a:t>07/30/26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