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48B5-EE4B-45B2-8AE2-9EC30062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89C0-B43B-433B-A344-D22A0CDB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06EE3-ADA9-4E4D-B72A-D8B88920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7DA92-EED4-41DA-AF5D-D23ADF51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C54B6-6FFF-437D-84A9-E89F8E73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6419B-C7A7-4A01-B6DF-A7ED80F5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DEA4C-C8DF-4482-85C7-0B9A1721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6FC02-96B0-4C28-A82D-5845FFD1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DAAD6-957A-434D-928D-00F04E85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8C08C-2BDB-47A7-A3CC-E597DC409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7ED7A-E092-410D-BF03-D0E74417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CEBF64-ECE0-483E-A185-3CE5D38A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C2EB-7B08-458B-A8E1-396E5443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A590E2-E14C-408F-B14D-F2B8F341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67129C-0982-47A7-9FD5-FC5F3057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12F2DF-72FE-4F31-9CE1-FE79B17D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3EB54D-71C8-4EAD-B64B-18E9D6D83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216EA6-DD0F-4530-BC14-AECDDF5A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746DE1-700B-4851-AC35-AD55B6A0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5141FC-44F8-406B-B52F-711EBBDC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1DC0F5-D8B3-4CF0-95B9-375C10215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B9495D-C17E-4CD6-AF23-B6FD446D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0747DF-92C4-439A-A812-21EF7316C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661-F07A-4B40-9CCD-00E847374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72EC7F-5206-4E0B-BD8E-4CB56BA6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AD13A-D070-4D68-82D5-F82057E9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F8D0A-F486-4133-B3EC-B2A7DEBC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B76C2-D594-4FFC-88FD-52F66212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39F715-B8F0-40A8-BE42-3F97BD6A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2732D-1A12-48B1-929A-A527C565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476BB-DA4A-49DB-8B88-85DFF6D3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6F588-1BDB-4166-8801-EFE4D4E6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44A9F-A8F0-4E71-B7AE-28AC66C3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46DC86-F963-461C-A993-AF741D96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CDF22-EC49-4A8E-A8CD-6AF0E825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C530D-24DF-48B7-95D7-AAFB7D8C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2BE3E6-D8DF-4A8F-8C28-CF8B35A88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37390-8361-4937-9BBA-4F30F427E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4B74A-45F4-4CC4-9C53-EC8DA6460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8BE388-2275-495A-BFCB-1129E992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AA2F8-03D4-4C0E-AF59-6BB4DF3E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F7CD5F-4C07-406B-BD93-19871CB7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50B070-418B-4129-800C-5141A576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E6822B-0F1B-41C4-ACBA-921453A2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6F8FDB-470D-4ED5-9BC5-7945784F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3AEB-B66B-49A3-9ADF-42B40B06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FC7AB-C4B1-440F-BCD9-93465364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4E0514-4485-426F-ACD9-FFE63E66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FCDD38-66E5-489C-8D2F-55FFE610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F61340-F512-404F-9C74-7703242D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5C2C6-D2EC-4B1A-8638-9C46939EE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05BB-F44E-4F76-8E2E-39B15EEF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BD0D-A83B-4EB8-BBED-B89478D5F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7A86-AB5B-4BC7-B0CD-E99DFD6B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3579-67CA-4DCE-99DD-AE9BD52C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BD7D-54DB-4331-A2FB-20DB6824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ABF0-6F88-434B-98AA-D5016BD18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0E32-2252-4890-BAF0-D771BAA1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F33D-1385-4383-8D1F-D9157735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91DD-1BAA-4370-B137-28F095CA1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7395-EB43-4889-9313-BD9C47F6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2F91-AAF0-4D96-BB31-561B2712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1008-F07E-4B3A-8184-920A8906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EA3725-0E4F-42BF-9FEE-5A2A14DF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7D87-36BE-430D-BB28-D03CBDE3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F3561-F6D2-4CD1-9BE7-C047CAA6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67337-058D-4E0B-B8BE-E07F5519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531-A6D0-4ABA-8EEE-6AC011FB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5D2C-23BC-4647-8714-6184CBC5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92DBF-E709-436D-A5FD-FD98B3E7E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CB444-3131-49F8-8653-1FBB98F6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1CF4-31EC-45E6-856B-FAAD1D5E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C7EE5-2621-4E54-AF1E-BFD56048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ADDB3-2D2C-42CC-BB03-5BC1445C8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56F3E-B2A7-4A0E-BF25-61017B7B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F4416-2137-4915-9D91-E2B45CFE6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37051-85C1-4924-8D80-597AA100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D640-4930-4C38-8D3A-D134C939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5633-D110-48FD-B8FC-D3D84773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EB238-566C-4DDC-82F9-F49B2B14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EB6EB-8B96-4EBB-8BF2-A3DA2A41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8A749-F27C-4055-99E7-84345159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0574-6721-4533-9C22-194E85BF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D8DA-54D0-49E4-B9EF-507AC705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961BA-A30E-4E22-9749-74883F7C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9843A-1D15-46BD-8384-F47224EA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9AE85-8470-4F8A-9A1D-B21D8E9B9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3B224-547B-4ECC-8F05-380A6ED9D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D8046-C7DA-40EF-BFEA-366D5E2DC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D73B-8E9E-4CCE-AECB-6E358749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4A80DF-250F-4193-AB61-0060509F4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9942D-FB29-49BE-A1F6-66AD7674B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FFA611-B621-4A98-9DF4-E2EC0972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B3102-13E0-4A79-968F-A4D652DE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49D61E-86B4-4531-BD59-8766422A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F220BA-D7CE-422E-A280-2D249312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3CACC1-EA4B-49BA-9559-207DD926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F370F-19F2-48EE-A8C6-C535F88B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1528BD-8A63-4DCE-9AE5-36F59C1EB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33803-E4FC-4711-B9A5-53C59FE4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106-920D-42F6-93DE-EE225058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12909B-9974-4017-BDAF-D566036CB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909D4-3F72-471A-B42E-3DAB6E98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5240C-8F25-4ECC-871A-ACC653C1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9D4B8-378B-4D00-B154-6EA029D2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4650-8B19-48C1-8F3F-02D95B2E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FC7C2-8891-4FCD-A46E-31CE30467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A8D4F-295E-4377-B20A-6BE35933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21560-3870-404C-A7B4-83CDBD68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FDF11-B603-4D8E-BB9C-790E40DB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AB8F8-6B6F-4EDB-ACE2-5208176E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2E8A-A146-43E2-9993-87562E59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43920-48FC-4A0E-9711-62F922FE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5552-759D-4CFF-99CE-F947ADA6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26ECCF-6142-4648-8C42-11CA15EEA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5EA32-DA30-4EBF-9C4E-0C9DAB8E9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9CB9E-5159-4C81-9EFA-CC9E97C7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238F4-1DE9-4CF5-A4E1-2F089F62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3C2EF-51CD-466C-A992-C80EEE23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6AC05-9BAA-4946-9D38-B44D9666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2FDC4A-4875-4E2D-8C30-46EE496B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1B458-4CBB-42EA-951E-0082E958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BDE7-487D-4AE5-A45A-A9DF3806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605A4-4388-47EF-A4E5-0924FFD2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B188-7AC7-484C-A7AC-6BF4640B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400B4-1B42-47D3-B530-1120FC12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1351A-EDDC-49F9-94BB-ED000D34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551F6D-DB84-425D-936E-9DBF4157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5C75E-6C31-4E70-8B96-618CFC8BC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0D2C9-6E75-4058-AC3D-7CC6C12E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ECCF1-A839-4FCA-A147-30E37AB4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DCA6C-C412-488F-B510-51DECB2B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1FBA9-0394-4984-A5A0-0E3BE77E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2D0-9E46-4549-8199-20632D82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A432B-BA9C-4B9F-99AE-EA80F33E7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968463-7521-47E9-8EE5-6A4DE2C2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225141-2271-4C78-B313-9D3C0B4B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AE50A-2BE1-4944-91B4-A14232FC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A664A-3E26-4678-BFBA-EB277522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94BA7-6829-41B1-9075-BCDB64A66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D737-EAC9-4549-91D1-EC970540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83194-9D4A-4374-AF6E-D8898A457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C1987-7371-4BE8-B07F-8A9A7F9E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7F78A9-F9FA-48D6-8ABE-98CC02AD9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474C-9812-4478-9BC6-A3DEA2BE533E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A549-DC85-4EED-8AD7-C1605B10E11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588E-4D3C-40EB-B184-1373B2588AB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4F17-4C5E-452D-9954-833F06E39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9D17-DA09-4C90-95C7-54A31D1E6C54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5D1E-571C-4982-A39B-CE69C21BDB3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D257-46CA-400A-8B4F-770F69DE544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E47E-32CC-4F96-9B5F-9E6625185D4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653DC-F7D6-48DA-84B6-27DCD9365495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F7D2-BB5F-4234-888E-9726245289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1D2E-405B-45CE-BC0B-7ED968A17CD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711B-6B5A-4193-9DD9-E6DA17B9F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227C5-C18D-424A-9F29-4E09CE9108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845A-9006-461E-BB09-269562BF2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575C-A046-4CD1-BF71-34601D5F599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3D33-D84D-4945-9BEB-449B6113036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72A4-F72E-4962-9100-0C66C193827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8B177-99C6-4205-9F09-82D0A7F8117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ECBE-7C1B-4181-8AA0-CC336028ADA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4CF5-F1E8-4DB8-81B6-A3EBBE65A5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5228-381A-4ECE-ABAE-73A83AB7940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A0A0-DD62-4DA7-B527-336DD20F2DE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5982-CDD7-4126-8084-C528E2F950E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F5F5-4E33-4316-9A4F-70AA0935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07D7-D27E-464F-B1C3-BD932EA85C8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ACBC1-4D16-4AE3-A87D-27C5B257F0DD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067AF-23D9-4471-A6B1-52F444D159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69AF5DC7-F631-499D-A0FF-19A291B55168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2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9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33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972A8-8940-4A1E-8C72-8044AA7EBA0F}" type="slidenum">
              <a:t>3</a:t>
            </a:fld>
          </a:p>
        </p:txBody>
      </p:sp>
    </p:spTree>
  </p:cSld>
  <p:transition>
    <p:comb dir="horz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3516AC-DF40-4D21-B9D6-5A36B74299D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2A9CA1D8-BA5F-4016-8045-391E9A446A00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0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2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4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B728A4-A4C9-43AA-AA87-135AD612853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3EE2EFAA-AEB1-4DAB-B754-B70DA981447E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0"/>
                            </p:stCondLst>
                            <p:childTnLst>
                              <p:par>
                                <p:cTn id="28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29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8000"/>
                            </p:stCondLst>
                            <p:childTnLst>
                              <p:par>
                                <p:cTn id="30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000"/>
                            </p:stCondLst>
                            <p:childTnLst>
                              <p:par>
                                <p:cTn id="3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FBB7A-6B8B-4A63-8272-F7A30C03F4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547B2D2E-9D8E-4F98-8A21-D1DED78FDE26}" type="datetime1">
              <a:rPr lang="en-US"/>
              <a:t>07/28/26</a:t>
            </a:fld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