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90720" y="767880"/>
            <a:ext cx="5108400" cy="382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200" spc="-1" strike="noStrike">
                <a:solidFill>
                  <a:srgbClr val="6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70720" cy="4594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1"/>
          </p:nvPr>
        </p:nvSpPr>
        <p:spPr>
          <a:xfrm>
            <a:off x="402084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B68BB-88C6-4D8B-9A6F-9ECD7C94C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2F87F-B781-417A-ACC9-EF4233CEE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36030-5020-42F3-B35E-D33FD740C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74D12-24D9-41B9-96CF-C286D36E3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8C8C6-D738-4347-A97C-AD29C0AA7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D414A-0FBF-4854-A39C-FA8E697B3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F4C8C-355F-41B7-BE63-01BE80FB2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FD8F8-4AE9-4A3E-B7E0-EB3797BDA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1F912-30E0-471E-B0E7-97DD72AC9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3000C-4EE1-4CE2-9E25-18E5F5608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121D5-62C6-4E5B-8C5C-9078BAEF6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56C75-D5D4-47FD-8776-46E16C403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94055-8651-4E30-9791-568D7790C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76F90-3475-4FCC-AC32-C1826A30F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41B88-5110-4CDC-AC98-473881F7B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01126-A797-4FB4-B191-1814F90B0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F794F-C0D5-435B-8381-FC37B2AAF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B2629-828F-4E9B-8615-841A684B3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A29A4-031D-46CE-A7B6-1FB18918B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A9428-9F58-4969-8259-BE8C4B564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96D70-10F5-4302-A1BB-9179921B9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E9BFB-8092-4EE6-BFE4-901D486A3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C1BBC-CB73-4138-98BE-B2E96EF00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44B62-0998-49A3-8C94-73EF7AE70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61B33-3C00-47A9-9DE7-E3EEB54B1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051D2-E9F3-4B0F-AAE4-2FD642A35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D59E3-C2A9-4416-9C9D-0A578615F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13947-3BAB-4412-AC61-20CECF846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63630-20EE-4FA7-99FF-C72D3377E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2"/>
          <p:cNvSpPr/>
          <p:nvPr/>
        </p:nvSpPr>
        <p:spPr>
          <a:xfrm>
            <a:off x="402120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D84F2-5900-4F15-BBC6-265ECFA91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3040" y="373212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415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98260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76180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0304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98260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76180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2680" y="360360"/>
            <a:ext cx="87663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15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03040" y="373212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15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98260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61800" y="112500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0304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98260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761800" y="3732120"/>
            <a:ext cx="26467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02680" y="360360"/>
            <a:ext cx="87663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15040" y="373212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2680" y="359640"/>
            <a:ext cx="8766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3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15040" y="1125000"/>
            <a:ext cx="401112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3040" y="3732120"/>
            <a:ext cx="8220240" cy="23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"/>
          <p:cNvGraphicFramePr/>
          <p:nvPr/>
        </p:nvGraphicFramePr>
        <p:xfrm>
          <a:off x="7861320" y="6343560"/>
          <a:ext cx="1176480" cy="41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61320" y="6343560"/>
                    <a:ext cx="11764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2680" y="360360"/>
            <a:ext cx="87663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4" descr=""/>
          <p:cNvPicPr/>
          <p:nvPr/>
        </p:nvPicPr>
        <p:blipFill>
          <a:blip r:embed="rId4"/>
          <a:stretch/>
        </p:blipFill>
        <p:spPr>
          <a:xfrm>
            <a:off x="6881760" y="6399360"/>
            <a:ext cx="863640" cy="3823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5"/>
          <p:cNvSpPr/>
          <p:nvPr/>
        </p:nvSpPr>
        <p:spPr>
          <a:xfrm>
            <a:off x="0" y="1000080"/>
            <a:ext cx="9150480" cy="4608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1440" y="928800"/>
            <a:ext cx="9150480" cy="2700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0" y="960480"/>
            <a:ext cx="9150480" cy="4608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8"/>
          <p:cNvSpPr/>
          <p:nvPr/>
        </p:nvSpPr>
        <p:spPr>
          <a:xfrm>
            <a:off x="1440" y="903240"/>
            <a:ext cx="9150480" cy="2700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Rectangle 9"/>
          <p:cNvSpPr/>
          <p:nvPr/>
        </p:nvSpPr>
        <p:spPr>
          <a:xfrm>
            <a:off x="1440" y="6224760"/>
            <a:ext cx="9150480" cy="45720"/>
          </a:xfrm>
          <a:prstGeom prst="rect">
            <a:avLst/>
          </a:prstGeom>
          <a:gradFill rotWithShape="0">
            <a:gsLst>
              <a:gs pos="0">
                <a:srgbClr val="c8d1d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Rectangle 10"/>
          <p:cNvSpPr/>
          <p:nvPr/>
        </p:nvSpPr>
        <p:spPr>
          <a:xfrm>
            <a:off x="1440" y="6251400"/>
            <a:ext cx="9150480" cy="63720"/>
          </a:xfrm>
          <a:prstGeom prst="rect">
            <a:avLst/>
          </a:prstGeom>
          <a:gradFill rotWithShape="0">
            <a:gsLst>
              <a:gs pos="0">
                <a:srgbClr val="6a839c"/>
              </a:gs>
              <a:gs pos="100000">
                <a:srgbClr val="c8d1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542880" y="644832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Text Box 12"/>
          <p:cNvSpPr/>
          <p:nvPr/>
        </p:nvSpPr>
        <p:spPr>
          <a:xfrm>
            <a:off x="57240" y="641520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D8165-33B1-4DFC-8246-ACFF02117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2680" y="360360"/>
            <a:ext cx="87663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6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03040" y="1125000"/>
            <a:ext cx="822024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1328760" y="1076400"/>
            <a:ext cx="70200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600000"/>
                </a:solidFill>
                <a:latin typeface="Arial"/>
              </a:rPr>
              <a:t>Meta-Programming with Modelica</a:t>
            </a:r>
            <a:br>
              <a:rPr sz="4000"/>
            </a:br>
            <a:br>
              <a:rPr sz="3600"/>
            </a:br>
            <a:r>
              <a:rPr b="0" lang="en-US" sz="3600" spc="-1" strike="noStrike">
                <a:solidFill>
                  <a:srgbClr val="600000"/>
                </a:solidFill>
                <a:latin typeface="Arial"/>
              </a:rPr>
              <a:t>for MetaModeling and Model Transformations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319120" y="4691160"/>
            <a:ext cx="4930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Peter Fritzson, Adrian Pop, Martin Sjölu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600000"/>
                </a:solidFill>
                <a:latin typeface="Arial"/>
              </a:rPr>
              <a:t>OpenModelica Course, 2011-09-1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203040" y="6480"/>
            <a:ext cx="89409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imple Expression Interpreter – with equation keyword, match, ca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Group 2"/>
          <p:cNvGrpSpPr/>
          <p:nvPr/>
        </p:nvGrpSpPr>
        <p:grpSpPr>
          <a:xfrm>
            <a:off x="622440" y="1536840"/>
            <a:ext cx="5902200" cy="4483080"/>
            <a:chOff x="622440" y="1536840"/>
            <a:chExt cx="5902200" cy="4483080"/>
          </a:xfrm>
        </p:grpSpPr>
        <p:sp>
          <p:nvSpPr>
            <p:cNvPr id="185" name="Rectangle 3"/>
            <p:cNvSpPr/>
            <p:nvPr/>
          </p:nvSpPr>
          <p:spPr>
            <a:xfrm>
              <a:off x="754200" y="1687680"/>
              <a:ext cx="5540400" cy="4332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4"/>
            <p:cNvSpPr/>
            <p:nvPr/>
          </p:nvSpPr>
          <p:spPr>
            <a:xfrm>
              <a:off x="622440" y="1536840"/>
              <a:ext cx="5575320" cy="437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5"/>
            <p:cNvSpPr/>
            <p:nvPr/>
          </p:nvSpPr>
          <p:spPr>
            <a:xfrm>
              <a:off x="663480" y="1554120"/>
              <a:ext cx="5861160" cy="43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function eval "Evaluates integer expression trees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input  Exp     exp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output Integer intval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intval :=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matchcontinue exp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local Integer v1,v2; Exp e1,e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INTconst(v1) then v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PLUSop(e1,e2) equation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+v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SUBop(e1,e2) equation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-v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MULop(e1,e2) equation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*v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DIVop(e1,e2) equation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v1 = eval(e1);  v2 = eval(e2); then v1/v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NEGop(e1) 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val(e1) = v1; then  -v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nd eval;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Text Box 6"/>
          <p:cNvSpPr/>
          <p:nvPr/>
        </p:nvSpPr>
        <p:spPr>
          <a:xfrm>
            <a:off x="6975360" y="2646360"/>
            <a:ext cx="2409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600000"/>
                </a:solidFill>
                <a:latin typeface="Arial"/>
              </a:rPr>
              <a:t>Local variables with scope inside case express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1785960" y="2825640"/>
            <a:ext cx="2724120" cy="23652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4554360" y="2914560"/>
            <a:ext cx="2248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6989760" y="3801960"/>
            <a:ext cx="202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600000"/>
                </a:solidFill>
                <a:latin typeface="Arial"/>
              </a:rPr>
              <a:t>Local equations with local unknowns v1, v2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1355760" y="3935520"/>
            <a:ext cx="3233880" cy="21564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11"/>
          <p:cNvSpPr/>
          <p:nvPr/>
        </p:nvSpPr>
        <p:spPr>
          <a:xfrm>
            <a:off x="4645080" y="3929040"/>
            <a:ext cx="20826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7000920" y="4361040"/>
            <a:ext cx="127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600000"/>
                </a:solidFill>
                <a:latin typeface="Arial"/>
              </a:rPr>
              <a:t>A returned 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5138640" y="4329000"/>
            <a:ext cx="630360" cy="24156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5799240" y="4451400"/>
            <a:ext cx="1104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6977160" y="3179880"/>
            <a:ext cx="2166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600000"/>
                </a:solidFill>
                <a:latin typeface="Arial"/>
              </a:rPr>
              <a:t>Pattern binding local pattern variables e1,  e2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1711440" y="3287880"/>
            <a:ext cx="1353960" cy="228600"/>
          </a:xfrm>
          <a:prstGeom prst="rect">
            <a:avLst/>
          </a:prstGeom>
          <a:solidFill>
            <a:srgbClr val="6a8388">
              <a:alpha val="25000"/>
            </a:srgbClr>
          </a:solidFill>
          <a:ln w="12600">
            <a:solidFill>
              <a:srgbClr val="6a83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17"/>
          <p:cNvSpPr/>
          <p:nvPr/>
        </p:nvSpPr>
        <p:spPr>
          <a:xfrm>
            <a:off x="2981160" y="3321000"/>
            <a:ext cx="392436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"/>
          <p:cNvSpPr/>
          <p:nvPr/>
        </p:nvSpPr>
        <p:spPr>
          <a:xfrm>
            <a:off x="203040" y="-6480"/>
            <a:ext cx="89409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Transformation Example</a:t>
            </a:r>
            <a:br>
              <a:rPr sz="2800"/>
            </a:b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imple Symbolic Differentia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203040" y="1125360"/>
            <a:ext cx="597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Group 3"/>
          <p:cNvGrpSpPr/>
          <p:nvPr/>
        </p:nvGrpSpPr>
        <p:grpSpPr>
          <a:xfrm>
            <a:off x="177840" y="1095480"/>
            <a:ext cx="4340160" cy="5022720"/>
            <a:chOff x="177840" y="1095480"/>
            <a:chExt cx="4340160" cy="5022720"/>
          </a:xfrm>
        </p:grpSpPr>
        <p:sp>
          <p:nvSpPr>
            <p:cNvPr id="203" name="Rectangle 4"/>
            <p:cNvSpPr/>
            <p:nvPr/>
          </p:nvSpPr>
          <p:spPr>
            <a:xfrm>
              <a:off x="247680" y="1247760"/>
              <a:ext cx="4270320" cy="48704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5"/>
            <p:cNvSpPr/>
            <p:nvPr/>
          </p:nvSpPr>
          <p:spPr>
            <a:xfrm>
              <a:off x="177840" y="1130400"/>
              <a:ext cx="4292640" cy="491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6"/>
            <p:cNvSpPr/>
            <p:nvPr/>
          </p:nvSpPr>
          <p:spPr>
            <a:xfrm>
              <a:off x="208080" y="1095480"/>
              <a:ext cx="4224240" cy="43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protected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functio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diff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inpu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Exp expr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inpu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400" spc="-1" strike="noStrike">
                  <a:solidFill>
                    <a:srgbClr val="00008b"/>
                  </a:solidFill>
                  <a:latin typeface="Courier New"/>
                </a:rPr>
                <a:t>String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timevar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outpu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Exp diffExpr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diffExpr :=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matchcontinu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expr,timevar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local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8b"/>
                  </a:solidFill>
                  <a:latin typeface="Courier New"/>
                </a:rPr>
                <a:t>String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id,id1,id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xp e1prim,e2prim,e1,e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der of constant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INT(_), _)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0" lang="sv-SE" sz="1400" spc="-1" strike="noStrike">
                  <a:solidFill>
                    <a:srgbClr val="8b008b"/>
                  </a:solidFill>
                  <a:latin typeface="Courier New"/>
                </a:rPr>
                <a:t>0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der of time variabl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(IDENT(id1), id2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ru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= id1 ==&amp; id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0" lang="sv-SE" sz="1400" spc="-1" strike="noStrike">
                  <a:solidFill>
                    <a:srgbClr val="8b008b"/>
                  </a:solidFill>
                  <a:latin typeface="Courier New"/>
                </a:rPr>
                <a:t>1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</a:t>
              </a:r>
              <a:r>
                <a:rPr b="0" lang="sv-SE" sz="1200" spc="-1" strike="noStrike">
                  <a:solidFill>
                    <a:srgbClr val="008200"/>
                  </a:solidFill>
                  <a:latin typeface="Courier New"/>
                </a:rPr>
                <a:t>der of time-independent variable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IDENT(_), _)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INT(</a:t>
              </a:r>
              <a:r>
                <a:rPr b="0" lang="sv-SE" sz="1400" spc="-1" strike="noStrike">
                  <a:solidFill>
                    <a:srgbClr val="8b008b"/>
                  </a:solidFill>
                  <a:latin typeface="Courier New"/>
                </a:rPr>
                <a:t>0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6" name="Group 7"/>
          <p:cNvGrpSpPr/>
          <p:nvPr/>
        </p:nvGrpSpPr>
        <p:grpSpPr>
          <a:xfrm>
            <a:off x="4648320" y="1095480"/>
            <a:ext cx="4354560" cy="5046480"/>
            <a:chOff x="4648320" y="1095480"/>
            <a:chExt cx="4354560" cy="5046480"/>
          </a:xfrm>
        </p:grpSpPr>
        <p:sp>
          <p:nvSpPr>
            <p:cNvPr id="207" name="Rectangle 8"/>
            <p:cNvSpPr/>
            <p:nvPr/>
          </p:nvSpPr>
          <p:spPr>
            <a:xfrm>
              <a:off x="4719600" y="1247760"/>
              <a:ext cx="4283280" cy="48942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Rectangle 9"/>
            <p:cNvSpPr/>
            <p:nvPr/>
          </p:nvSpPr>
          <p:spPr>
            <a:xfrm>
              <a:off x="4648320" y="1130400"/>
              <a:ext cx="4305240" cy="494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ectangle 10"/>
            <p:cNvSpPr/>
            <p:nvPr/>
          </p:nvSpPr>
          <p:spPr>
            <a:xfrm>
              <a:off x="4676760" y="1095480"/>
              <a:ext cx="4237200" cy="45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(e1+e2)’ =&gt; e1’+e2’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ADD(e1,e2),id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2prim = diff(e2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ADD(e1prim,e2prim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(e1/e2)’ =&gt; (e1’*e2 – e1*e2’)/e2*e2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DIV(e1,e2),id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2prim = diff(e2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DIV(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SUB(MUL(e1prim,e2),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 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MUL(e1,e2prim)),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 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MUL(e2,e2)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8200"/>
                  </a:solidFill>
                  <a:latin typeface="Courier New"/>
                </a:rPr>
                <a:t>// (-e1)’ =&gt; -e1’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case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(NEG(e1),id)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1prim = diff(e1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8b0000"/>
                  </a:solidFill>
                  <a:latin typeface="Courier New"/>
                </a:rPr>
                <a:t>then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NEG(e1prim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General Syntactic Structure of match-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203040" y="1125360"/>
            <a:ext cx="1359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1447920" y="1206360"/>
            <a:ext cx="6804000" cy="4327560"/>
            <a:chOff x="1447920" y="1206360"/>
            <a:chExt cx="6804000" cy="4327560"/>
          </a:xfrm>
        </p:grpSpPr>
        <p:sp>
          <p:nvSpPr>
            <p:cNvPr id="213" name="Rectangle 4"/>
            <p:cNvSpPr/>
            <p:nvPr/>
          </p:nvSpPr>
          <p:spPr>
            <a:xfrm>
              <a:off x="1569960" y="1325520"/>
              <a:ext cx="6681960" cy="4208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5"/>
            <p:cNvSpPr/>
            <p:nvPr/>
          </p:nvSpPr>
          <p:spPr>
            <a:xfrm>
              <a:off x="1447920" y="1206360"/>
              <a:ext cx="6681600" cy="420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6"/>
            <p:cNvSpPr/>
            <p:nvPr/>
          </p:nvSpPr>
          <p:spPr>
            <a:xfrm>
              <a:off x="1455840" y="1222200"/>
              <a:ext cx="663876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matchcontinu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&lt;expr&gt;  &lt;opt-local-decl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&lt;pat-expr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cas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&lt;pat-expr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els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opt-equations&gt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then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expr&gt;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end </a:t>
              </a:r>
              <a:r>
                <a:rPr b="0" lang="sv-SE" sz="1800" spc="-1" strike="noStrike">
                  <a:solidFill>
                    <a:srgbClr val="000000"/>
                  </a:solidFill>
                  <a:latin typeface="Courier New"/>
                </a:rPr>
                <a:t>matchcontinue;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101520" y="231840"/>
            <a:ext cx="911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emantics of Local Equations in match-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203040" y="1125360"/>
            <a:ext cx="84582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lgebraic equations are allowed, no differential equ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locally declared variables (local unknowns) declared by local declarations within the case expression are solved f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s are solved in the order they are declared. (This restriction may be removed in the future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equation or an expression i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ranch of a matchcontinue-expression fails, all local variables become unbound, and matching continues with the next branch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19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101520" y="371520"/>
            <a:ext cx="911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emantics of Local Equations  cont..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203040" y="1125360"/>
            <a:ext cx="840744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equations in match-expressions do not solve for any variables – they may be called "constraints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ll variables are already bound in these equ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The equation may either be fulfilled (succeed) or not (fai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there can locally be more equations than unbound variables, if including the constrai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1201680" y="3262320"/>
            <a:ext cx="4556160" cy="1596960"/>
            <a:chOff x="1201680" y="3262320"/>
            <a:chExt cx="4556160" cy="1596960"/>
          </a:xfrm>
        </p:grpSpPr>
        <p:sp>
          <p:nvSpPr>
            <p:cNvPr id="221" name="Rectangle 4"/>
            <p:cNvSpPr/>
            <p:nvPr/>
          </p:nvSpPr>
          <p:spPr>
            <a:xfrm>
              <a:off x="1282680" y="3308400"/>
              <a:ext cx="4475160" cy="155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5"/>
            <p:cNvSpPr/>
            <p:nvPr/>
          </p:nvSpPr>
          <p:spPr>
            <a:xfrm>
              <a:off x="1201680" y="3262320"/>
              <a:ext cx="4475160" cy="155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local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Real x=5; Integer y = 10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true = x&gt;4;   // Succeeds!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true = y&lt;10;  // Fails!!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List Data Struc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203040" y="1125360"/>
            <a:ext cx="869976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ype-expr&gt; is a list type constru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type RealList =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gt;;   type is a list of re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gt;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rlis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         variable that is a list of re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l1,el2,el3, ...) is a list data constructor that creates a list of elements of identical typ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{}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() empty li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{2,3,4}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DejaVu Sans"/>
              </a:rPr>
              <a:t>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(2,3,4) list of integ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{el1,el2,el3, ...} overloaded array or list constructor, interpreted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...)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...) depending on type contex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} or list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notes an empty reference to a list or tree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dds an element in front of the li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returns the resulting list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rat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What Does PolyMorphic Mea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203040" y="1125360"/>
            <a:ext cx="89409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Morphic – adapt to multiple typ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 – multiple, morphic – adap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6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dard – An operation is only defined for one type, e.g.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rrayInsertElement(intelement, intArr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olymorphic function is defined for multiple types, e.g. elements in an array can be of any type: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rrayInsertElement(anyElement, anyArr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Predefined Polymorphic List Ope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203040" y="1125360"/>
            <a:ext cx="597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Group 3"/>
          <p:cNvGrpSpPr/>
          <p:nvPr/>
        </p:nvGrpSpPr>
        <p:grpSpPr>
          <a:xfrm>
            <a:off x="127080" y="1171440"/>
            <a:ext cx="4468680" cy="5021280"/>
            <a:chOff x="127080" y="1171440"/>
            <a:chExt cx="4468680" cy="5021280"/>
          </a:xfrm>
        </p:grpSpPr>
        <p:sp>
          <p:nvSpPr>
            <p:cNvPr id="230" name="Rectangle 4"/>
            <p:cNvSpPr/>
            <p:nvPr/>
          </p:nvSpPr>
          <p:spPr>
            <a:xfrm>
              <a:off x="200160" y="1324080"/>
              <a:ext cx="4395600" cy="4868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5"/>
            <p:cNvSpPr/>
            <p:nvPr/>
          </p:nvSpPr>
          <p:spPr>
            <a:xfrm>
              <a:off x="127080" y="1204920"/>
              <a:ext cx="4417920" cy="491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6"/>
            <p:cNvSpPr/>
            <p:nvPr/>
          </p:nvSpPr>
          <p:spPr>
            <a:xfrm>
              <a:off x="155520" y="1171440"/>
              <a:ext cx="4348080" cy="32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pend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list&lt;Eltype&gt; lst3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pend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verse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list&lt;Eltype&gt; lst3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vers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gth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Integer len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gth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Group 7"/>
          <p:cNvGrpSpPr/>
          <p:nvPr/>
        </p:nvGrpSpPr>
        <p:grpSpPr>
          <a:xfrm>
            <a:off x="4711680" y="1158840"/>
            <a:ext cx="4429080" cy="5046840"/>
            <a:chOff x="4711680" y="1158840"/>
            <a:chExt cx="4429080" cy="5046840"/>
          </a:xfrm>
        </p:grpSpPr>
        <p:sp>
          <p:nvSpPr>
            <p:cNvPr id="234" name="Rectangle 8"/>
            <p:cNvSpPr/>
            <p:nvPr/>
          </p:nvSpPr>
          <p:spPr>
            <a:xfrm>
              <a:off x="4782960" y="1311120"/>
              <a:ext cx="4357800" cy="48945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9"/>
            <p:cNvSpPr/>
            <p:nvPr/>
          </p:nvSpPr>
          <p:spPr>
            <a:xfrm>
              <a:off x="4711680" y="1193760"/>
              <a:ext cx="4379760" cy="494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10"/>
            <p:cNvSpPr/>
            <p:nvPr/>
          </p:nvSpPr>
          <p:spPr>
            <a:xfrm>
              <a:off x="4741920" y="1158840"/>
              <a:ext cx="4309920" cy="41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mber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Eltype elem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Boolean resul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mber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th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&lt;Eltype&gt; lst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Integer elindex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Eltype elem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th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lete&lt;Eltype&g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ListType lst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Integer  elindex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ListType lst3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type ListType = list&lt;Eltype&gt;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Delete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203040" y="19368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Function Formal Parame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203040" y="1125360"/>
            <a:ext cx="875052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can be passed as actual arguments at function call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checking done on the function formal parameter type signature, not including the actual names of inputs and outputs to the passed functio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258840" y="2111400"/>
            <a:ext cx="8883720" cy="1846080"/>
            <a:chOff x="258840" y="2111400"/>
            <a:chExt cx="8883720" cy="1846080"/>
          </a:xfrm>
        </p:grpSpPr>
        <p:sp>
          <p:nvSpPr>
            <p:cNvPr id="240" name="Rectangle 4"/>
            <p:cNvSpPr/>
            <p:nvPr/>
          </p:nvSpPr>
          <p:spPr>
            <a:xfrm>
              <a:off x="401760" y="2135160"/>
              <a:ext cx="8740800" cy="1822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Rectangle 5"/>
            <p:cNvSpPr/>
            <p:nvPr/>
          </p:nvSpPr>
          <p:spPr>
            <a:xfrm>
              <a:off x="258840" y="2111400"/>
              <a:ext cx="8740800" cy="182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intListMap   "Map over a list of integers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Functype func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list&lt;Integer&gt; inls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list&lt;Integer&gt; outls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ublic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artial function Functype input Integer x1; output Integer x2; end Functyp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lgorithm  ...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intListMap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Group 6"/>
          <p:cNvGrpSpPr/>
          <p:nvPr/>
        </p:nvGrpSpPr>
        <p:grpSpPr>
          <a:xfrm>
            <a:off x="217440" y="3975120"/>
            <a:ext cx="8925120" cy="2143080"/>
            <a:chOff x="217440" y="3975120"/>
            <a:chExt cx="8925120" cy="2143080"/>
          </a:xfrm>
        </p:grpSpPr>
        <p:sp>
          <p:nvSpPr>
            <p:cNvPr id="243" name="Rectangle 7"/>
            <p:cNvSpPr/>
            <p:nvPr/>
          </p:nvSpPr>
          <p:spPr>
            <a:xfrm>
              <a:off x="378000" y="4033800"/>
              <a:ext cx="8764560" cy="2084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8"/>
            <p:cNvSpPr/>
            <p:nvPr/>
          </p:nvSpPr>
          <p:spPr>
            <a:xfrm>
              <a:off x="217440" y="3975120"/>
              <a:ext cx="8764560" cy="208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9"/>
            <p:cNvSpPr/>
            <p:nvPr/>
          </p:nvSpPr>
          <p:spPr>
            <a:xfrm>
              <a:off x="228600" y="3979800"/>
              <a:ext cx="870588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listMap&lt;Type_a&gt; "Map over elements of type Type_a, a type parameter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Functype func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list&lt;Type_a&gt; inls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output list&lt;Type_a&gt; outlst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artial function Functype  input Type_a x1; output Type_a x2; end Functyp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lgorithm  ...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listMap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203040" y="-19080"/>
            <a:ext cx="89409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Calling Functions with Function Formal Parameters and/or Parameterized Typ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203040" y="1125360"/>
            <a:ext cx="8750520" cy="16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with passed function arguments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_list_map(add1,intlst1)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ed using type 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r uses type inference to derive type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able type paramet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_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 Integ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input list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&lt;Integer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Map(add1, intlst1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Group 3"/>
          <p:cNvGrpSpPr/>
          <p:nvPr/>
        </p:nvGrpSpPr>
        <p:grpSpPr>
          <a:xfrm>
            <a:off x="241200" y="2933640"/>
            <a:ext cx="8634600" cy="1459080"/>
            <a:chOff x="241200" y="2933640"/>
            <a:chExt cx="8634600" cy="1459080"/>
          </a:xfrm>
        </p:grpSpPr>
        <p:sp>
          <p:nvSpPr>
            <p:cNvPr id="249" name="Rectangle 4"/>
            <p:cNvSpPr/>
            <p:nvPr/>
          </p:nvSpPr>
          <p:spPr>
            <a:xfrm>
              <a:off x="396720" y="2973240"/>
              <a:ext cx="8479080" cy="1419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Rectangle 5"/>
            <p:cNvSpPr/>
            <p:nvPr/>
          </p:nvSpPr>
          <p:spPr>
            <a:xfrm>
              <a:off x="241200" y="2933640"/>
              <a:ext cx="8479080" cy="141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6"/>
            <p:cNvSpPr/>
            <p:nvPr/>
          </p:nvSpPr>
          <p:spPr>
            <a:xfrm>
              <a:off x="252360" y="2938320"/>
              <a:ext cx="84218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call function intListMap   "Map over a list of integers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1 := {1,3,5,9}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tlst2 := intListMap(add1, intlst1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2" name="Group 7"/>
          <p:cNvGrpSpPr/>
          <p:nvPr/>
        </p:nvGrpSpPr>
        <p:grpSpPr>
          <a:xfrm>
            <a:off x="254160" y="4559400"/>
            <a:ext cx="8672400" cy="1636560"/>
            <a:chOff x="254160" y="4559400"/>
            <a:chExt cx="8672400" cy="1636560"/>
          </a:xfrm>
        </p:grpSpPr>
        <p:sp>
          <p:nvSpPr>
            <p:cNvPr id="253" name="Rectangle 8"/>
            <p:cNvSpPr/>
            <p:nvPr/>
          </p:nvSpPr>
          <p:spPr>
            <a:xfrm>
              <a:off x="411120" y="4605480"/>
              <a:ext cx="8515440" cy="1590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9"/>
            <p:cNvSpPr/>
            <p:nvPr/>
          </p:nvSpPr>
          <p:spPr>
            <a:xfrm>
              <a:off x="254160" y="4559400"/>
              <a:ext cx="8515080" cy="159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10"/>
            <p:cNvSpPr/>
            <p:nvPr/>
          </p:nvSpPr>
          <p:spPr>
            <a:xfrm>
              <a:off x="264960" y="4564080"/>
              <a:ext cx="84582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call function listMap   "Map over a list of Type_a – a type parameter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1 := {1,3,5,9}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list&lt;Integer&gt; intlst2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tlst2 := listMap(add1, intlst1);  // The type parameter is inferred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Extensibility and Modularity of Modeling Too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ing and simulation tools are too monolith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and tools need to be extensible and modul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on, query, manipulation, composition and management of model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modeling of operations on mod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7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7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Tuple Data Struc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203040" y="1125360"/>
            <a:ext cx="8775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ples are anonymous records without field na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ple&lt;...&gt; – tuple type constructor (keyword not neede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type VarBND  = tuple&lt;Ident, Integer&gt;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tuple&lt;Real,Integer&gt; realintpair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..., ..., ...) – tuple data constru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3.14, "this is a string"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ca functions with multiple results return tup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xample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a,b,c) := foo(x, 2, 3, 5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Option Type Construc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203040" y="1125360"/>
            <a:ext cx="8699760" cy="34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type constructor, parameterized by some type (e.g.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Type_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) creates a kind of uniontype with the predefined constructor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NON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SOME(..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consta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NON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with no arguments automatically belongs to any option type. A constructor call such a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굴림"/>
              </a:rPr>
              <a:t>SOME(x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whe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x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has the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Type_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, has the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굴림"/>
              </a:rPr>
              <a:t>Option&lt;Type_a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ghly equivalent to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" name="Group 3"/>
          <p:cNvGrpSpPr/>
          <p:nvPr/>
        </p:nvGrpSpPr>
        <p:grpSpPr>
          <a:xfrm>
            <a:off x="888840" y="4660920"/>
            <a:ext cx="7083720" cy="1370160"/>
            <a:chOff x="888840" y="4660920"/>
            <a:chExt cx="7083720" cy="1370160"/>
          </a:xfrm>
        </p:grpSpPr>
        <p:sp>
          <p:nvSpPr>
            <p:cNvPr id="261" name="Rectangle 4"/>
            <p:cNvSpPr/>
            <p:nvPr/>
          </p:nvSpPr>
          <p:spPr>
            <a:xfrm>
              <a:off x="1015920" y="4699080"/>
              <a:ext cx="6956640" cy="1332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5"/>
            <p:cNvSpPr/>
            <p:nvPr/>
          </p:nvSpPr>
          <p:spPr>
            <a:xfrm>
              <a:off x="888840" y="4660920"/>
              <a:ext cx="6956640" cy="13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6"/>
            <p:cNvSpPr/>
            <p:nvPr/>
          </p:nvSpPr>
          <p:spPr>
            <a:xfrm>
              <a:off x="896760" y="4665600"/>
              <a:ext cx="69105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uniontype Option&lt;Type_a&gt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NONE  end NONE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SOME  Type_a x1;  end SOME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nd Option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Group 7"/>
          <p:cNvGrpSpPr/>
          <p:nvPr/>
        </p:nvGrpSpPr>
        <p:grpSpPr>
          <a:xfrm>
            <a:off x="914400" y="2082960"/>
            <a:ext cx="6727680" cy="769680"/>
            <a:chOff x="914400" y="2082960"/>
            <a:chExt cx="6727680" cy="769680"/>
          </a:xfrm>
        </p:grpSpPr>
        <p:sp>
          <p:nvSpPr>
            <p:cNvPr id="265" name="Rectangle 8"/>
            <p:cNvSpPr/>
            <p:nvPr/>
          </p:nvSpPr>
          <p:spPr>
            <a:xfrm>
              <a:off x="1035000" y="2103480"/>
              <a:ext cx="6607080" cy="749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9"/>
            <p:cNvSpPr/>
            <p:nvPr/>
          </p:nvSpPr>
          <p:spPr>
            <a:xfrm>
              <a:off x="914400" y="2082960"/>
              <a:ext cx="6607080" cy="74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0"/>
            <p:cNvSpPr/>
            <p:nvPr/>
          </p:nvSpPr>
          <p:spPr>
            <a:xfrm>
              <a:off x="920880" y="2085840"/>
              <a:ext cx="6565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replaceable type Type_a subtypeof Any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type Option_a = Option&lt;Type_a&gt;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203040" y="23184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Testing for Fail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203040" y="1087560"/>
            <a:ext cx="894096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cal equation may fail or succe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uiltin equation operat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il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rg) succeeds 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ails, 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local equ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3"/>
          <p:cNvGrpSpPr/>
          <p:nvPr/>
        </p:nvGrpSpPr>
        <p:grpSpPr>
          <a:xfrm>
            <a:off x="876240" y="4394160"/>
            <a:ext cx="6703920" cy="1164240"/>
            <a:chOff x="876240" y="4394160"/>
            <a:chExt cx="6703920" cy="1164240"/>
          </a:xfrm>
        </p:grpSpPr>
        <p:sp>
          <p:nvSpPr>
            <p:cNvPr id="271" name="Rectangle 4"/>
            <p:cNvSpPr/>
            <p:nvPr/>
          </p:nvSpPr>
          <p:spPr>
            <a:xfrm>
              <a:off x="1025640" y="4427640"/>
              <a:ext cx="6291000" cy="944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5"/>
            <p:cNvSpPr/>
            <p:nvPr/>
          </p:nvSpPr>
          <p:spPr>
            <a:xfrm>
              <a:off x="876240" y="4394160"/>
              <a:ext cx="6330960" cy="9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6"/>
            <p:cNvSpPr/>
            <p:nvPr/>
          </p:nvSpPr>
          <p:spPr>
            <a:xfrm>
              <a:off x="925560" y="4398840"/>
              <a:ext cx="66546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case ((id2,_) :: rest, id)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failure(true =  id ==&amp; id2);  value = lookup(rest,id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then valu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Rectangle 7"/>
          <p:cNvSpPr/>
          <p:nvPr/>
        </p:nvSpPr>
        <p:spPr>
          <a:xfrm>
            <a:off x="444600" y="3513240"/>
            <a:ext cx="396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, testing for failure in Modelic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Generating a fail "Exception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ll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ail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fail the current case-branch in the match-expression and continue with the next branc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are no more case-branches, the enclosing function will fai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pression or equation may fail for other reasons, e.g. division by zero, no match, unsolvable equation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as-expressions in Pattern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0" y="1006560"/>
            <a:ext cx="914400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unbound local variable (declar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o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an be set equal to an expression in a pattern expression through an as-expresson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r as subexp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used to give another name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ubexp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variable may only be associated with one expre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the expression equation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ar as subexp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ubexp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DejaVu Sans"/>
              </a:rPr>
              <a:t>(a as Absyn.IDENT("der"), expl,b,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match and matchcontin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0" y="1006560"/>
            <a:ext cx="9144000" cy="20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Modelica has two different match-expres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matchcontinue runs all matching cases in order until it finds one that succee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match runs only the first matching c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both are useful to describe different program flow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Group 3"/>
          <p:cNvGrpSpPr/>
          <p:nvPr/>
        </p:nvGrpSpPr>
        <p:grpSpPr>
          <a:xfrm>
            <a:off x="179280" y="3192480"/>
            <a:ext cx="5218200" cy="1846080"/>
            <a:chOff x="179280" y="3192480"/>
            <a:chExt cx="5218200" cy="1846080"/>
          </a:xfrm>
        </p:grpSpPr>
        <p:sp>
          <p:nvSpPr>
            <p:cNvPr id="282" name="Rectangle 4"/>
            <p:cNvSpPr/>
            <p:nvPr/>
          </p:nvSpPr>
          <p:spPr>
            <a:xfrm>
              <a:off x="263520" y="3216240"/>
              <a:ext cx="5133960" cy="1822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5"/>
            <p:cNvSpPr/>
            <p:nvPr/>
          </p:nvSpPr>
          <p:spPr>
            <a:xfrm>
              <a:off x="179280" y="3192480"/>
              <a:ext cx="5133960" cy="182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notOne "Fails if the input is not 1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Integer i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_ := match i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case 1 then fail()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Do stuff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match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notOn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Group 6"/>
          <p:cNvGrpSpPr/>
          <p:nvPr/>
        </p:nvGrpSpPr>
        <p:grpSpPr>
          <a:xfrm>
            <a:off x="3060720" y="3600360"/>
            <a:ext cx="5757840" cy="2697120"/>
            <a:chOff x="3060720" y="3600360"/>
            <a:chExt cx="5757840" cy="2697120"/>
          </a:xfrm>
        </p:grpSpPr>
        <p:sp>
          <p:nvSpPr>
            <p:cNvPr id="285" name="Rectangle 7"/>
            <p:cNvSpPr/>
            <p:nvPr/>
          </p:nvSpPr>
          <p:spPr>
            <a:xfrm>
              <a:off x="3152880" y="3633840"/>
              <a:ext cx="5665680" cy="2663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8"/>
            <p:cNvSpPr/>
            <p:nvPr/>
          </p:nvSpPr>
          <p:spPr>
            <a:xfrm>
              <a:off x="3060720" y="3600360"/>
              <a:ext cx="5665680" cy="266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unction notOne "Fails if the input is not 1"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nput  Integer i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_ := matchcontinue i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case i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quation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This constraint needs to be added to th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beginning of every subsequent case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alse = i == 1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// Do stuff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notOne;</a:t>
              </a:r>
              <a:endParaRPr b="1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ummary of New MetaModelica Reserved Wo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177840" y="1006560"/>
            <a:ext cx="896616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Underscore is a reserved word used as a pattern placeholder, name placeholder in anonymous functions, types, classes, etc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matc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used in match-expressions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matchcontin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used in matchcontinue-expressions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used in match/matchcontinue-expressions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oc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used for local declarations in match expressions, etc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uniontyp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union type declarations, e.g. tree data types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as-expression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ummary of New Reserved Words Cont'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0" y="1006560"/>
            <a:ext cx="9144000" cy="57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ld be a reserved word, but this is not necessary since it is only used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(...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redefined parameterized union typ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"/>
          <p:cNvSpPr/>
          <p:nvPr/>
        </p:nvSpPr>
        <p:spPr>
          <a:xfrm>
            <a:off x="203040" y="396720"/>
            <a:ext cx="894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ummary of New Builtin Functions and Operato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203040" y="1125360"/>
            <a:ext cx="89409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...&gt; – list type constructor, in type contex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...&gt; – tuple type construc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...) – list data constructor, in expression contex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– attach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t front of lis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s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fai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) –  Raise fail exception, having null valu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..., ..., ...) or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..., ..., ...) – tuple data construc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Courier New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List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c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pera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2"/>
          <p:cNvSpPr/>
          <p:nvPr/>
        </p:nvSpPr>
        <p:spPr>
          <a:xfrm>
            <a:off x="343080" y="1163520"/>
            <a:ext cx="8343720" cy="51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-modeling increasingly important, also for the Modelica language and its applic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-modeling/meta-programming extensions allow writing a Modelica compiler in Modelic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are recursive union types (trees), lists, and match-expressions – standard constructs found in functional languag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Modelica compiler implemented using MetaModelica extensions since March 2006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ping - Ongoing work to compile OpenModelica compiler using itself, completed spring 2011 (excluding garbage collectio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Some Semantics Modeling Approach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03040" y="1125360"/>
            <a:ext cx="8382240" cy="53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bility - allow models to also model language proper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ologies to classify application doma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For example, semantic we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tion-based approach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odelica – hybrid differential algebraic equ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ingle-assignment equations – functional languages, SOS/Natural semantic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Unification equations: logic programming and functional languages, SOS/Natural semantic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an usually be efficiently execut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 approach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First-order logi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ften computationally intractable for realistic applications in its general for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Meta-Level Operations on Mod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Ope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re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Que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anipul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ompos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anag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ipulation of model equations f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Optimization purpos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aralleliz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odel check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imulation with different solv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a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llow model packages for tool extens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ample: Automatic PDE discretization schem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Meta-Level Operations on Models, Con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configuration for simulation purpo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Initial st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Initialization via xml data files or databas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 fea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unning a simulation and display a resul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unning more simulations in parall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Handle simulation failures and continue the simulation in a different wa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ossibility to generate ONLY specific data from a simul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ossibility to manipulate simulation data for export to another too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Meta-Modelica Compiler (MMC) and Langu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0304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Modelica is an extend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bs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Modelic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RML compiler supports only MetaModelic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OMC supports Modelica 3.1 + MetaModelic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for development of OM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etaModelica Language propertie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Modelica syntax and base semantic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Pattern matching (named/positional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Local equations (local within expression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Recursive tree data structur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Lists and tupl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Garbage collection of heap-allocated dat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Arrays (different from standard Modelica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Vectors (array with local update as in standard Modelica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Polymorphic function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Function formal parameters to function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Simple builtin exception (failure) handling mechanis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Many of these features come from functional programming language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A Simple match-Expression Examp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203040" y="1125360"/>
            <a:ext cx="751860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, returning a number, given a string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1282680" y="2120760"/>
            <a:ext cx="4049640" cy="2970360"/>
            <a:chOff x="1282680" y="2120760"/>
            <a:chExt cx="4049640" cy="2970360"/>
          </a:xfrm>
        </p:grpSpPr>
        <p:sp>
          <p:nvSpPr>
            <p:cNvPr id="115" name="Rectangle 4"/>
            <p:cNvSpPr/>
            <p:nvPr/>
          </p:nvSpPr>
          <p:spPr>
            <a:xfrm>
              <a:off x="1355760" y="2281320"/>
              <a:ext cx="3976560" cy="2809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5"/>
            <p:cNvSpPr/>
            <p:nvPr/>
          </p:nvSpPr>
          <p:spPr>
            <a:xfrm>
              <a:off x="1282680" y="2120760"/>
              <a:ext cx="3976560" cy="281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6"/>
            <p:cNvSpPr/>
            <p:nvPr/>
          </p:nvSpPr>
          <p:spPr>
            <a:xfrm>
              <a:off x="1287360" y="2131920"/>
              <a:ext cx="394992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String s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Real   x;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algorithm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x :=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matchcontinue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case "one"   then 1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case "two"   then 2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case "three" then 3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else              0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sv-SE" sz="1600" spc="-1" strike="noStrike">
                  <a:solidFill>
                    <a:srgbClr val="000000"/>
                  </a:solidFill>
                  <a:latin typeface="Courier New"/>
                </a:rPr>
                <a:t>end matchcontinue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203040" y="3967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Tree Types – uniontype Declaration Examp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203040" y="1125360"/>
            <a:ext cx="375768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on types specifie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ne or more record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on types can b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urs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an reference themselv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p type is a union type of three record typ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constructors INT, NEG and AD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usage is abstract syntax tre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4000680" y="1816200"/>
            <a:ext cx="5065560" cy="1458720"/>
            <a:chOff x="4000680" y="1816200"/>
            <a:chExt cx="5065560" cy="1458720"/>
          </a:xfrm>
        </p:grpSpPr>
        <p:sp>
          <p:nvSpPr>
            <p:cNvPr id="121" name="Rectangle 4"/>
            <p:cNvSpPr/>
            <p:nvPr/>
          </p:nvSpPr>
          <p:spPr>
            <a:xfrm>
              <a:off x="4054320" y="1882800"/>
              <a:ext cx="5011920" cy="13921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5"/>
            <p:cNvSpPr/>
            <p:nvPr/>
          </p:nvSpPr>
          <p:spPr>
            <a:xfrm>
              <a:off x="4000680" y="1816200"/>
              <a:ext cx="5011560" cy="139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6"/>
            <p:cNvSpPr/>
            <p:nvPr/>
          </p:nvSpPr>
          <p:spPr>
            <a:xfrm>
              <a:off x="4006800" y="1822320"/>
              <a:ext cx="49784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uniontype Exp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INT  Integer x1;     end INT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NEG  Exp x1;         end NEG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ADD  Exp x1; Exp x2; end ADD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nd Ex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" name="Rectangle 7"/>
          <p:cNvSpPr/>
          <p:nvPr/>
        </p:nvSpPr>
        <p:spPr>
          <a:xfrm>
            <a:off x="3959280" y="127620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Modelica  tree type declaration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Group 8"/>
          <p:cNvGrpSpPr/>
          <p:nvPr/>
        </p:nvGrpSpPr>
        <p:grpSpPr>
          <a:xfrm>
            <a:off x="6814080" y="3884760"/>
            <a:ext cx="1376640" cy="1285560"/>
            <a:chOff x="6814080" y="3884760"/>
            <a:chExt cx="1376640" cy="1285560"/>
          </a:xfrm>
        </p:grpSpPr>
        <p:sp>
          <p:nvSpPr>
            <p:cNvPr id="126" name="Rectangle 9"/>
            <p:cNvSpPr/>
            <p:nvPr/>
          </p:nvSpPr>
          <p:spPr>
            <a:xfrm>
              <a:off x="7248240" y="3897360"/>
              <a:ext cx="412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ADD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0"/>
            <p:cNvSpPr/>
            <p:nvPr/>
          </p:nvSpPr>
          <p:spPr>
            <a:xfrm>
              <a:off x="6814080" y="4543560"/>
              <a:ext cx="31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1"/>
            <p:cNvSpPr/>
            <p:nvPr/>
          </p:nvSpPr>
          <p:spPr>
            <a:xfrm>
              <a:off x="6958080" y="4778280"/>
              <a:ext cx="12600" cy="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12"/>
            <p:cNvSpPr/>
            <p:nvPr/>
          </p:nvSpPr>
          <p:spPr>
            <a:xfrm>
              <a:off x="6958080" y="4956120"/>
              <a:ext cx="12600" cy="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3"/>
            <p:cNvSpPr/>
            <p:nvPr/>
          </p:nvSpPr>
          <p:spPr>
            <a:xfrm>
              <a:off x="6958080" y="4778280"/>
              <a:ext cx="12600" cy="176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14"/>
            <p:cNvSpPr/>
            <p:nvPr/>
          </p:nvSpPr>
          <p:spPr>
            <a:xfrm>
              <a:off x="6930360" y="49417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5"/>
            <p:cNvSpPr/>
            <p:nvPr/>
          </p:nvSpPr>
          <p:spPr>
            <a:xfrm>
              <a:off x="7872840" y="4543560"/>
              <a:ext cx="31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16"/>
            <p:cNvSpPr/>
            <p:nvPr/>
          </p:nvSpPr>
          <p:spPr>
            <a:xfrm>
              <a:off x="8040600" y="4778280"/>
              <a:ext cx="12960" cy="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17"/>
            <p:cNvSpPr/>
            <p:nvPr/>
          </p:nvSpPr>
          <p:spPr>
            <a:xfrm>
              <a:off x="8040600" y="4956120"/>
              <a:ext cx="12960" cy="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18"/>
            <p:cNvSpPr/>
            <p:nvPr/>
          </p:nvSpPr>
          <p:spPr>
            <a:xfrm>
              <a:off x="8040600" y="4778280"/>
              <a:ext cx="12960" cy="1764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19"/>
            <p:cNvSpPr/>
            <p:nvPr/>
          </p:nvSpPr>
          <p:spPr>
            <a:xfrm>
              <a:off x="7957080" y="49417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44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20"/>
            <p:cNvSpPr/>
            <p:nvPr/>
          </p:nvSpPr>
          <p:spPr>
            <a:xfrm>
              <a:off x="7507440" y="388476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21"/>
            <p:cNvSpPr/>
            <p:nvPr/>
          </p:nvSpPr>
          <p:spPr>
            <a:xfrm>
              <a:off x="7507440" y="4159080"/>
              <a:ext cx="10800" cy="12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8" h="9">
                  <a:moveTo>
                    <a:pt x="8" y="9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8" y="9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22"/>
            <p:cNvSpPr/>
            <p:nvPr/>
          </p:nvSpPr>
          <p:spPr>
            <a:xfrm>
              <a:off x="6958080" y="4557600"/>
              <a:ext cx="12600" cy="12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9" y="9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3"/>
            <p:cNvSpPr/>
            <p:nvPr/>
          </p:nvSpPr>
          <p:spPr>
            <a:xfrm>
              <a:off x="6958080" y="4159080"/>
              <a:ext cx="560160" cy="41148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354" h="260">
                  <a:moveTo>
                    <a:pt x="354" y="9"/>
                  </a:moveTo>
                  <a:lnTo>
                    <a:pt x="346" y="0"/>
                  </a:lnTo>
                  <a:lnTo>
                    <a:pt x="0" y="251"/>
                  </a:lnTo>
                  <a:lnTo>
                    <a:pt x="9" y="260"/>
                  </a:lnTo>
                  <a:lnTo>
                    <a:pt x="35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4"/>
            <p:cNvSpPr/>
            <p:nvPr/>
          </p:nvSpPr>
          <p:spPr>
            <a:xfrm>
              <a:off x="7507440" y="4159080"/>
              <a:ext cx="10800" cy="12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8" h="9">
                  <a:moveTo>
                    <a:pt x="8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5"/>
            <p:cNvSpPr/>
            <p:nvPr/>
          </p:nvSpPr>
          <p:spPr>
            <a:xfrm>
              <a:off x="8055000" y="4557600"/>
              <a:ext cx="12600" cy="12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9" h="9">
                  <a:moveTo>
                    <a:pt x="9" y="0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6"/>
            <p:cNvSpPr/>
            <p:nvPr/>
          </p:nvSpPr>
          <p:spPr>
            <a:xfrm>
              <a:off x="7507440" y="4159080"/>
              <a:ext cx="560160" cy="41148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354" h="260">
                  <a:moveTo>
                    <a:pt x="8" y="0"/>
                  </a:moveTo>
                  <a:lnTo>
                    <a:pt x="0" y="9"/>
                  </a:lnTo>
                  <a:lnTo>
                    <a:pt x="345" y="260"/>
                  </a:lnTo>
                  <a:lnTo>
                    <a:pt x="354" y="25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Rectangle 27"/>
          <p:cNvSpPr/>
          <p:nvPr/>
        </p:nvSpPr>
        <p:spPr>
          <a:xfrm>
            <a:off x="3936960" y="4110120"/>
            <a:ext cx="29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(INT(6),INT(44)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203040" y="20628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600000"/>
                </a:solidFill>
                <a:latin typeface="Arial"/>
              </a:rPr>
              <a:t>Another uniontype Declaration of Exp Expres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Group 2"/>
          <p:cNvGrpSpPr/>
          <p:nvPr/>
        </p:nvGrpSpPr>
        <p:grpSpPr>
          <a:xfrm>
            <a:off x="3240000" y="2165400"/>
            <a:ext cx="5749920" cy="2692440"/>
            <a:chOff x="3240000" y="2165400"/>
            <a:chExt cx="5749920" cy="2692440"/>
          </a:xfrm>
        </p:grpSpPr>
        <p:sp>
          <p:nvSpPr>
            <p:cNvPr id="147" name="Rectangle 3"/>
            <p:cNvSpPr/>
            <p:nvPr/>
          </p:nvSpPr>
          <p:spPr>
            <a:xfrm>
              <a:off x="3300480" y="2287440"/>
              <a:ext cx="5689440" cy="2570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4"/>
            <p:cNvSpPr/>
            <p:nvPr/>
          </p:nvSpPr>
          <p:spPr>
            <a:xfrm>
              <a:off x="3240000" y="2165400"/>
              <a:ext cx="5689800" cy="257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uniontype Exp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INTconst Integer x1;  end INTconst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PLUSop  Exp x1; Exp x2; end PLUSo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SUBop   Exp x1; Exp x2; end SUBo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MULop   Exp x1; Exp x2; end MULo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DIVop   Exp x1; Exp x2; end DIVo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cord NEGop   Exp x1;         end NEGo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nd Exp;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Rectangle 5"/>
          <p:cNvSpPr/>
          <p:nvPr/>
        </p:nvSpPr>
        <p:spPr>
          <a:xfrm>
            <a:off x="3213000" y="1316160"/>
            <a:ext cx="57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tract syntax tree data type declaration of Exp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279360" y="4707000"/>
            <a:ext cx="29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2+5*1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Group 7"/>
          <p:cNvGrpSpPr/>
          <p:nvPr/>
        </p:nvGrpSpPr>
        <p:grpSpPr>
          <a:xfrm>
            <a:off x="144360" y="2158920"/>
            <a:ext cx="2986200" cy="2129040"/>
            <a:chOff x="144360" y="2158920"/>
            <a:chExt cx="2986200" cy="2129040"/>
          </a:xfrm>
        </p:grpSpPr>
        <p:sp>
          <p:nvSpPr>
            <p:cNvPr id="152" name="Rectangle 8"/>
            <p:cNvSpPr/>
            <p:nvPr/>
          </p:nvSpPr>
          <p:spPr>
            <a:xfrm>
              <a:off x="144360" y="2158920"/>
              <a:ext cx="2986200" cy="21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9"/>
            <p:cNvSpPr/>
            <p:nvPr/>
          </p:nvSpPr>
          <p:spPr>
            <a:xfrm>
              <a:off x="1117440" y="2158920"/>
              <a:ext cx="659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PLUSop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10"/>
            <p:cNvSpPr/>
            <p:nvPr/>
          </p:nvSpPr>
          <p:spPr>
            <a:xfrm>
              <a:off x="1928520" y="2982960"/>
              <a:ext cx="614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MULop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11"/>
            <p:cNvSpPr/>
            <p:nvPr/>
          </p:nvSpPr>
          <p:spPr>
            <a:xfrm>
              <a:off x="163080" y="29829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12"/>
            <p:cNvSpPr/>
            <p:nvPr/>
          </p:nvSpPr>
          <p:spPr>
            <a:xfrm>
              <a:off x="514440" y="3218040"/>
              <a:ext cx="12600" cy="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>
              <a:off x="514440" y="3395520"/>
              <a:ext cx="12600" cy="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>
              <a:off x="514440" y="3218040"/>
              <a:ext cx="12600" cy="176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15"/>
            <p:cNvSpPr/>
            <p:nvPr/>
          </p:nvSpPr>
          <p:spPr>
            <a:xfrm>
              <a:off x="429120" y="33829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16"/>
            <p:cNvSpPr/>
            <p:nvPr/>
          </p:nvSpPr>
          <p:spPr>
            <a:xfrm>
              <a:off x="1272600" y="36291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17"/>
            <p:cNvSpPr/>
            <p:nvPr/>
          </p:nvSpPr>
          <p:spPr>
            <a:xfrm>
              <a:off x="1623960" y="3863880"/>
              <a:ext cx="12600" cy="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18"/>
            <p:cNvSpPr/>
            <p:nvPr/>
          </p:nvSpPr>
          <p:spPr>
            <a:xfrm>
              <a:off x="1623960" y="4041720"/>
              <a:ext cx="12600" cy="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19"/>
            <p:cNvSpPr/>
            <p:nvPr/>
          </p:nvSpPr>
          <p:spPr>
            <a:xfrm>
              <a:off x="1623960" y="3863880"/>
              <a:ext cx="12600" cy="1764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20"/>
            <p:cNvSpPr/>
            <p:nvPr/>
          </p:nvSpPr>
          <p:spPr>
            <a:xfrm>
              <a:off x="1596240" y="40273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21"/>
            <p:cNvSpPr/>
            <p:nvPr/>
          </p:nvSpPr>
          <p:spPr>
            <a:xfrm>
              <a:off x="2369520" y="3629160"/>
              <a:ext cx="72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INTconst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22"/>
            <p:cNvSpPr/>
            <p:nvPr/>
          </p:nvSpPr>
          <p:spPr>
            <a:xfrm>
              <a:off x="2706840" y="3863880"/>
              <a:ext cx="12600" cy="3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23"/>
            <p:cNvSpPr/>
            <p:nvPr/>
          </p:nvSpPr>
          <p:spPr>
            <a:xfrm>
              <a:off x="2706840" y="4041720"/>
              <a:ext cx="12600" cy="3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24"/>
            <p:cNvSpPr/>
            <p:nvPr/>
          </p:nvSpPr>
          <p:spPr>
            <a:xfrm>
              <a:off x="2706840" y="3863880"/>
              <a:ext cx="12600" cy="1764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25"/>
            <p:cNvSpPr/>
            <p:nvPr/>
          </p:nvSpPr>
          <p:spPr>
            <a:xfrm>
              <a:off x="2622960" y="402732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1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26"/>
            <p:cNvSpPr/>
            <p:nvPr/>
          </p:nvSpPr>
          <p:spPr>
            <a:xfrm>
              <a:off x="1363680" y="2421000"/>
              <a:ext cx="12600" cy="111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9" h="8">
                  <a:moveTo>
                    <a:pt x="9" y="8"/>
                  </a:moveTo>
                  <a:lnTo>
                    <a:pt x="9" y="8"/>
                  </a:lnTo>
                  <a:lnTo>
                    <a:pt x="0" y="0"/>
                  </a:lnTo>
                  <a:lnTo>
                    <a:pt x="9" y="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27"/>
            <p:cNvSpPr/>
            <p:nvPr/>
          </p:nvSpPr>
          <p:spPr>
            <a:xfrm>
              <a:off x="541440" y="2970360"/>
              <a:ext cx="12600" cy="108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8">
                  <a:moveTo>
                    <a:pt x="9" y="8"/>
                  </a:moveTo>
                  <a:lnTo>
                    <a:pt x="9" y="8"/>
                  </a:lnTo>
                  <a:lnTo>
                    <a:pt x="0" y="0"/>
                  </a:lnTo>
                  <a:lnTo>
                    <a:pt x="9" y="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28"/>
            <p:cNvSpPr/>
            <p:nvPr/>
          </p:nvSpPr>
          <p:spPr>
            <a:xfrm>
              <a:off x="541440" y="2421000"/>
              <a:ext cx="834840" cy="56016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560160"/>
                <a:gd name="textAreaBottom" fmla="*/ 560520 h 560160"/>
              </a:gdLst>
              <a:ahLst/>
              <a:rect l="textAreaLeft" t="textAreaTop" r="textAreaRight" b="textAreaBottom"/>
              <a:pathLst>
                <a:path w="527" h="354">
                  <a:moveTo>
                    <a:pt x="527" y="8"/>
                  </a:moveTo>
                  <a:lnTo>
                    <a:pt x="518" y="0"/>
                  </a:lnTo>
                  <a:lnTo>
                    <a:pt x="0" y="346"/>
                  </a:lnTo>
                  <a:lnTo>
                    <a:pt x="9" y="354"/>
                  </a:lnTo>
                  <a:lnTo>
                    <a:pt x="52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29"/>
            <p:cNvSpPr/>
            <p:nvPr/>
          </p:nvSpPr>
          <p:spPr>
            <a:xfrm>
              <a:off x="1363680" y="2421000"/>
              <a:ext cx="12600" cy="111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9" h="8">
                  <a:moveTo>
                    <a:pt x="9" y="0"/>
                  </a:moveTo>
                  <a:lnTo>
                    <a:pt x="9" y="0"/>
                  </a:lnTo>
                  <a:lnTo>
                    <a:pt x="0" y="8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30"/>
            <p:cNvSpPr/>
            <p:nvPr/>
          </p:nvSpPr>
          <p:spPr>
            <a:xfrm>
              <a:off x="2173320" y="2970360"/>
              <a:ext cx="11160" cy="108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31"/>
            <p:cNvSpPr/>
            <p:nvPr/>
          </p:nvSpPr>
          <p:spPr>
            <a:xfrm>
              <a:off x="1363680" y="2421000"/>
              <a:ext cx="820800" cy="560160"/>
            </a:xfrm>
            <a:custGeom>
              <a:avLst/>
              <a:gdLst>
                <a:gd name="textAreaLeft" fmla="*/ 0 w 820800"/>
                <a:gd name="textAreaRight" fmla="*/ 821160 w 820800"/>
                <a:gd name="textAreaTop" fmla="*/ 0 h 560160"/>
                <a:gd name="textAreaBottom" fmla="*/ 560520 h 560160"/>
              </a:gdLst>
              <a:ahLst/>
              <a:rect l="textAreaLeft" t="textAreaTop" r="textAreaRight" b="textAreaBottom"/>
              <a:pathLst>
                <a:path w="518" h="354">
                  <a:moveTo>
                    <a:pt x="9" y="0"/>
                  </a:moveTo>
                  <a:lnTo>
                    <a:pt x="0" y="8"/>
                  </a:lnTo>
                  <a:lnTo>
                    <a:pt x="510" y="354"/>
                  </a:lnTo>
                  <a:lnTo>
                    <a:pt x="518" y="3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32"/>
            <p:cNvSpPr/>
            <p:nvPr/>
          </p:nvSpPr>
          <p:spPr>
            <a:xfrm>
              <a:off x="2173320" y="3244680"/>
              <a:ext cx="11160" cy="129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8" h="9">
                  <a:moveTo>
                    <a:pt x="8" y="9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8" y="9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33"/>
            <p:cNvSpPr/>
            <p:nvPr/>
          </p:nvSpPr>
          <p:spPr>
            <a:xfrm>
              <a:off x="1623960" y="3643200"/>
              <a:ext cx="12600" cy="129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9" y="9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34"/>
            <p:cNvSpPr/>
            <p:nvPr/>
          </p:nvSpPr>
          <p:spPr>
            <a:xfrm>
              <a:off x="1623960" y="3244680"/>
              <a:ext cx="560520" cy="41148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354" h="260">
                  <a:moveTo>
                    <a:pt x="354" y="9"/>
                  </a:moveTo>
                  <a:lnTo>
                    <a:pt x="346" y="0"/>
                  </a:lnTo>
                  <a:lnTo>
                    <a:pt x="0" y="251"/>
                  </a:lnTo>
                  <a:lnTo>
                    <a:pt x="9" y="260"/>
                  </a:lnTo>
                  <a:lnTo>
                    <a:pt x="35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35"/>
            <p:cNvSpPr/>
            <p:nvPr/>
          </p:nvSpPr>
          <p:spPr>
            <a:xfrm>
              <a:off x="2173320" y="3244680"/>
              <a:ext cx="11160" cy="129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8" h="9">
                  <a:moveTo>
                    <a:pt x="8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36"/>
            <p:cNvSpPr/>
            <p:nvPr/>
          </p:nvSpPr>
          <p:spPr>
            <a:xfrm>
              <a:off x="2720880" y="3643200"/>
              <a:ext cx="12960" cy="129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9" h="9">
                  <a:moveTo>
                    <a:pt x="9" y="0"/>
                  </a:moveTo>
                  <a:lnTo>
                    <a:pt x="9" y="0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480" bIns="-3348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37"/>
            <p:cNvSpPr/>
            <p:nvPr/>
          </p:nvSpPr>
          <p:spPr>
            <a:xfrm>
              <a:off x="2173320" y="3244680"/>
              <a:ext cx="560520" cy="41148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354" h="260">
                  <a:moveTo>
                    <a:pt x="8" y="0"/>
                  </a:moveTo>
                  <a:lnTo>
                    <a:pt x="0" y="9"/>
                  </a:lnTo>
                  <a:lnTo>
                    <a:pt x="345" y="260"/>
                  </a:lnTo>
                  <a:lnTo>
                    <a:pt x="354" y="25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Rectangle 38"/>
          <p:cNvSpPr/>
          <p:nvPr/>
        </p:nvSpPr>
        <p:spPr>
          <a:xfrm>
            <a:off x="266760" y="5430960"/>
            <a:ext cx="56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LUSop(INTconst(12)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ULop(INTconst(5),INTconst(13))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3:07:46Z</dcterms:created>
  <dc:creator>Peter Fritzson</dc:creator>
  <dc:description/>
  <dc:language>en-US</dc:language>
  <cp:lastModifiedBy>Martin Sjolund</cp:lastModifiedBy>
  <dcterms:modified xsi:type="dcterms:W3CDTF">2011-09-15T15:53:00Z</dcterms:modified>
  <cp:revision>576</cp:revision>
  <dc:subject/>
  <dc:title>Slide 1</dc:title>
</cp:coreProperties>
</file>