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98280" y="771120"/>
            <a:ext cx="510228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199120" cy="45939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2"/>
          </p:nvPr>
        </p:nvSpPr>
        <p:spPr>
          <a:xfrm>
            <a:off x="4022640" y="9723240"/>
            <a:ext cx="3068640" cy="502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68C32-63C9-46F7-82E7-BA7D69952C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2B5FC-3907-4AD0-BCE1-14EA9ED978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B38CF-F73F-426A-9BFE-3723EB060B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B1ACE-D686-466D-ACE0-7323995475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0BB3D-58B5-4DAE-A46C-19554151F6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3D2EB-409F-4D35-92A0-C29A086C8D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7E500-8174-4DCD-B586-BCC7EBA1A9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04944-6BD7-408F-915A-8871AAA140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AD680-723B-4510-B01D-042DB8E238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9E689-07AD-41BB-9F2F-686665AE27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CDB1B-CD3D-40F7-AB38-513D551A1A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7E02D-E520-4A0F-A394-817E5C2D1F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26734-C8CA-4CDE-8A90-3CB9054D32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93E51-9857-4980-86A2-FDFE3A2128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1C0B3-B93B-4D76-A964-0C961B836C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66B59-7381-4253-AB22-51688C3ECC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71189-5EC0-4E75-BD0C-3A287CBFAE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7510F-1A36-47FD-A04E-8143D4E54C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644C6-EB53-4B47-B596-874419B8B3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6AC59-0BC6-4D07-9851-6897B60B9A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00F98-0AB4-4876-B3CF-31FAD78A33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22A8E-A3F0-4D09-948D-72E6F3F22E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7DC54-334B-41A9-9CB4-2975B94F17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D4F14-71ED-4F21-8354-47FF1EDB6C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5F6CC-9F5D-4582-A0A9-D76E995FB0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022FD-F2FD-4BA0-9944-8CDFFA3FC6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68C4D-9745-491B-9BA3-BFDDB7B6FC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705B6-C2CA-44F7-99B5-ECAEA93219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74AB9-0525-4C83-BA2B-74ABCFD5B1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CD420-C4E4-4A64-A5B4-CFBC292B63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6FAF3-C96E-4801-994D-71BF8DAF1A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D7513-6779-4E67-84AF-77A3F093B0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9510A-96A4-4834-8E61-45F4D70434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5F050-A9D5-4A13-A538-C450B1DCF1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5DC42-2F98-4F91-8688-6ED42DB7A4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BFDED-0D92-4C0B-AC59-8A510414D5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F8511-A1AA-46B6-B05D-345647CC47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BB75A-D757-4609-8460-C04C68CB53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6E7D2-EAD9-4DC2-B4E7-6B7242F536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4DC96-4645-4D14-A37E-C29ACAF315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D8D40-623C-4431-9C4D-C8AA989E45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049CD-CBC0-4A76-8270-E91F8E6773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23591-D5F3-4BAF-8223-B135CFF342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77FBC-9A5F-4337-93CA-8ACD3B52EC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CD758-0A4C-403F-84AA-D2D82E84CC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0B713-D4FB-49EE-83E4-5B226DEE07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F35A4-716C-42D4-87A8-10EEB5F4B8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E8BE0-ED59-49BE-942F-9B0AD6DAF4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4776D-098A-4B7B-9265-E724953266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0480F-1C62-40FC-8FA4-68675887CE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56B3B-8CE7-4E7E-9515-CCF751122A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0E2E6-C2FB-4D8E-8F35-70208410BD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F0976-0EFC-493F-AACF-70CBAB7DB1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9F854-690B-45E6-A05E-1C994D75E8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2A455-4073-414D-A19E-1A9D892915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93B6A-6D5A-4B60-B1AB-6D56BF711B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06101-456C-44E9-8F39-33C32EDDE1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6E877-0EBB-4758-834C-4070E45FBA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0DC3B-85A5-40E5-A050-1FE589B10B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3FC76-681A-4841-9675-DD180B528A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0E6E9-472A-42C9-B6D7-D4AFDF5375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4C376-2F3C-4D96-847F-839EAC8F76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02B21-128D-4D40-A842-D8EB5AA539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79271-2163-4F9D-902A-4BCB3BE335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9077A-7E2B-47CD-B55F-E54FE6DD21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182134-24B5-4074-8074-1C274B9924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A0A22-D4BA-47C4-838D-477AC4DD7F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6FAE5-D6E9-4057-ADF1-39F4294F74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AABAC-C00F-4BDD-A1BF-86BE44E052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B9B3E-173D-4878-8C26-7FA860F52D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15196-EC60-4EA3-AFA6-8CD430CD14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BEBBF-0CAE-4957-8AF2-CEFBDD3889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C8B5D-FF66-4BE0-B70C-76393928E5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F1B7F-082F-4C51-B6BD-93AB1F9AF5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F2774-82A8-407D-AC8B-475471119F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A031D-7296-4A54-A1BB-D3ED59A697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9AE77-7542-4DF9-BBCB-A068E44DE1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06078-8201-4829-9EAB-3F72D54D3F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32336-3ECB-406A-BFC6-BAE653126C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C1C7F-E723-4EA1-925C-F19D16E6C7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FAF9C-EAD0-4165-9BDB-9281F39F98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ED571-B240-4FEF-B544-A0E0D51175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1D458-1B7D-45E8-AE54-8955896C58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6AAA2-0E39-4104-AD74-C0E4CD742A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839A2-C015-49CC-9797-D0F6737CC3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72277-8FD3-4803-9A42-74F41BDCA2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1"/>
          <p:cNvSpPr/>
          <p:nvPr/>
        </p:nvSpPr>
        <p:spPr>
          <a:xfrm>
            <a:off x="4022640" y="9723600"/>
            <a:ext cx="3068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EC6E5-B63C-4598-83AE-9D3EE43DF8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98C3B-D57A-4FD1-BEC5-F531FE96AE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8640" y="771480"/>
            <a:ext cx="5110200" cy="38322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B070-0C2F-4DB5-BD2A-B34A32DCBB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DBB4-1FA7-4867-B498-6D64AB454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4E14-336B-494F-ABB5-E7C23920C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9680-E717-41F5-9E6B-428CD35D9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1A10-BF3A-456D-82C0-17CEB5DEA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780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040" y="9140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780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040" y="3855240"/>
            <a:ext cx="274536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2B57-57FF-478E-A8CC-C2CD5CF1D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DF5E-D05E-43BA-9B5D-6301019B3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F737-471D-447D-ADDB-607254F69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76160" y="-360"/>
            <a:ext cx="745956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8A19-5A07-4C65-AE64-1674C93A36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C99A-3149-4A86-90E0-AB1860D40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8552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66F7-0FEE-43CD-941B-EA7AFA1BA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14040"/>
            <a:ext cx="416052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55240"/>
            <a:ext cx="8526240" cy="26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7F96-D7DE-4820-A21D-34927842E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86760" y="6496200"/>
            <a:ext cx="906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CF010-BB73-4AD4-81F2-C1D837A923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7b1c15"/>
          </a:solidFill>
          <a:ln w="9360">
            <a:solidFill>
              <a:srgbClr val="63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04920" y="914040"/>
            <a:ext cx="8526240" cy="56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76160" y="-360"/>
            <a:ext cx="745956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ida.liu.se/labs/pelab/modelica/OpenModelica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685800" y="56196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OpenModelica Eclipse Plugin and </a:t>
            </a:r>
            <a:br>
              <a:rPr sz="4800"/>
            </a:br>
            <a:r>
              <a:rPr b="0" lang="en-GB" sz="4800" spc="-1" strike="noStrike">
                <a:solidFill>
                  <a:srgbClr val="7b1c15"/>
                </a:solidFill>
                <a:latin typeface="Trebuchet MS"/>
              </a:rPr>
              <a:t>MetaModelica Exercis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042920" y="3213000"/>
            <a:ext cx="7129440" cy="20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drian P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rebuchet MS"/>
              </a:rPr>
              <a:t>adrian.pop@liu.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ELAB/IDA/LIU,  2007-03-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Last Updated 2011-09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by Peter Fritzson and Martin Sjöl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42B14-CCCF-4586-9589-19C185B4175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ose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B7BF4-1034-41FD-A988-946761CCE95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 to Modelic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DFB03-F217-4E79-B37D-308EC2B0042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how the OpenModelica Console 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52133-A621-4EE7-ABC3-0C701051093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0_simples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perform a simple simulation in the MDT Eclipse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 or copy a simple model into an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Open the Eclipse view “OpenModelica conso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imulate with the simulate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plot with the plot comm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Note: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following exercises you will no longer use the “OpenModelica consol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D83FE-C63A-4C23-9ACB-758204342B8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01 - 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E5441-70E2-4A5B-924D-3F47BE8AF89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0" y="720720"/>
            <a:ext cx="65340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BE8E1-B1DA-4584-81BA-C725D825743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uild the firs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 flipH="1">
            <a:off x="1971720" y="2700360"/>
            <a:ext cx="9144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 flipV="1">
            <a:off x="3780000" y="1254240"/>
            <a:ext cx="1979280" cy="181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616040" y="2049480"/>
            <a:ext cx="709956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use Rebuild Project or the but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uild Project only works if you modify a source f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having pressed the button once, Alt+B can be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9194A-B4C8-4AC0-AAD4-05D0223D3A4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351640" cy="6264360"/>
          </a:xfrm>
          <a:prstGeom prst="rect">
            <a:avLst/>
          </a:prstGeom>
          <a:ln w="0">
            <a:noFill/>
          </a:ln>
        </p:spPr>
      </p:pic>
      <p:sp>
        <p:nvSpPr>
          <p:cNvPr id="148" name="Line 4"/>
          <p:cNvSpPr/>
          <p:nvPr/>
        </p:nvSpPr>
        <p:spPr>
          <a:xfrm flipH="1">
            <a:off x="4564080" y="2133720"/>
            <a:ext cx="736560" cy="237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709080" y="1440000"/>
            <a:ext cx="420840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leans th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4928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runs the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 flipH="1" flipV="1">
            <a:off x="2835360" y="4861080"/>
            <a:ext cx="1744560" cy="131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1619280" y="4861080"/>
            <a:ext cx="431640" cy="736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220680" y="5580000"/>
            <a:ext cx="38260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proble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pd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ave in the problems vie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586040" y="5950080"/>
            <a:ext cx="35899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ild and run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isplayed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65671-83F3-4BEC-821C-971C16AA9B0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042920" y="0"/>
            <a:ext cx="8101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Debug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52948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0_simplesim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1_experiment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2a_exp1, (02b_exp2 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3_symbolicderivativ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  <a:p>
            <a:pPr marL="343080" indent="-3398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04_assignment (optional)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33F70-8CF0-4981-A052-2DB4BED2D1A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using OM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Very recen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Run target “deps” to build depend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n run the debug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ote: Programs that require stdin do not work yet (Eclipse does not send EO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You can print data structures using printAny(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39CC0-039D-4BDD-A235-EC568354732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penModelica MDT – Eclipse Plu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Browsing of packages, classes,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building of executables;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eparate compi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Syntax highligh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completion,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de query support for develop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Automatic Ind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Debugger </a:t>
            </a:r>
            <a:br>
              <a:rPr sz="2400"/>
            </a:b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(Prel. version for algorithmic subs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956200" y="1692360"/>
            <a:ext cx="299088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B176A-C51E-4E94-B79C-B5F6DD9501D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539640" y="0"/>
            <a:ext cx="860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ting the debug config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457200" y="569880"/>
            <a:ext cx="8001000" cy="506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9C76D-BA85-4EDB-9810-4ECF621394F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up the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Group 1"/>
          <p:cNvGrpSpPr/>
          <p:nvPr/>
        </p:nvGrpSpPr>
        <p:grpSpPr>
          <a:xfrm>
            <a:off x="5028840" y="1108080"/>
            <a:ext cx="3940560" cy="1182600"/>
            <a:chOff x="5028840" y="1108080"/>
            <a:chExt cx="3940560" cy="1182600"/>
          </a:xfrm>
        </p:grpSpPr>
        <p:sp>
          <p:nvSpPr>
            <p:cNvPr id="167" name="Line 4"/>
            <p:cNvSpPr/>
            <p:nvPr/>
          </p:nvSpPr>
          <p:spPr>
            <a:xfrm flipH="1">
              <a:off x="5028840" y="1941480"/>
              <a:ext cx="1523880" cy="349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Text Box 5"/>
            <p:cNvSpPr/>
            <p:nvPr/>
          </p:nvSpPr>
          <p:spPr>
            <a:xfrm>
              <a:off x="5562360" y="1108080"/>
              <a:ext cx="3407040" cy="8254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location where you installed OpenModel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Group 8"/>
          <p:cNvGrpSpPr/>
          <p:nvPr/>
        </p:nvGrpSpPr>
        <p:grpSpPr>
          <a:xfrm>
            <a:off x="174600" y="960480"/>
            <a:ext cx="3406680" cy="1554120"/>
            <a:chOff x="174600" y="960480"/>
            <a:chExt cx="3406680" cy="1554120"/>
          </a:xfrm>
        </p:grpSpPr>
        <p:sp>
          <p:nvSpPr>
            <p:cNvPr id="170" name="Text Box 5"/>
            <p:cNvSpPr/>
            <p:nvPr/>
          </p:nvSpPr>
          <p:spPr>
            <a:xfrm>
              <a:off x="174600" y="960480"/>
              <a:ext cx="34066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roject direct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4"/>
            <p:cNvSpPr/>
            <p:nvPr/>
          </p:nvSpPr>
          <p:spPr>
            <a:xfrm>
              <a:off x="1877760" y="1424160"/>
              <a:ext cx="1475280" cy="109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Group 11"/>
          <p:cNvGrpSpPr/>
          <p:nvPr/>
        </p:nvGrpSpPr>
        <p:grpSpPr>
          <a:xfrm>
            <a:off x="174600" y="2669760"/>
            <a:ext cx="7750080" cy="662040"/>
            <a:chOff x="174600" y="2669760"/>
            <a:chExt cx="7750080" cy="662040"/>
          </a:xfrm>
        </p:grpSpPr>
        <p:sp>
          <p:nvSpPr>
            <p:cNvPr id="173" name="Text Box 5"/>
            <p:cNvSpPr/>
            <p:nvPr/>
          </p:nvSpPr>
          <p:spPr>
            <a:xfrm>
              <a:off x="174600" y="2872080"/>
              <a:ext cx="775008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GNU debugger (not Microsoft/Apple-provided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4"/>
            <p:cNvSpPr/>
            <p:nvPr/>
          </p:nvSpPr>
          <p:spPr>
            <a:xfrm flipV="1">
              <a:off x="2851560" y="2669760"/>
              <a:ext cx="501120" cy="20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3C46A-BC57-45D6-BBEE-9CCED13DDF6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t breakpoints in .mo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 flipH="1" flipV="1">
            <a:off x="2043000" y="2916000"/>
            <a:ext cx="1548000" cy="159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411280" y="4508640"/>
            <a:ext cx="31687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 the ruler to set break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F43C8-B3EE-4F59-963E-F1CA9AA6CB1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95280" y="0"/>
            <a:ext cx="87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un the debug configuration to start debu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3" name="Line 4"/>
          <p:cNvSpPr/>
          <p:nvPr/>
        </p:nvSpPr>
        <p:spPr>
          <a:xfrm flipH="1" flipV="1">
            <a:off x="963720" y="973080"/>
            <a:ext cx="1619280" cy="3176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03280" y="4149720"/>
            <a:ext cx="3384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nd select th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 configu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bugging will st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89F6D-3D0F-40D3-B24B-AB270FA1778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clipse will ask to switch to debugging persp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30790-91B0-4DBA-9A52-3966C016E16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bugging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1" name="Line 4"/>
          <p:cNvSpPr/>
          <p:nvPr/>
        </p:nvSpPr>
        <p:spPr>
          <a:xfrm flipV="1">
            <a:off x="1763640" y="1333440"/>
            <a:ext cx="2016360" cy="347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9640" y="4797360"/>
            <a:ext cx="316872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buttons to ste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6"/>
          <p:cNvSpPr/>
          <p:nvPr/>
        </p:nvSpPr>
        <p:spPr>
          <a:xfrm flipV="1">
            <a:off x="5219640" y="1620360"/>
            <a:ext cx="36036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643280" y="4508640"/>
            <a:ext cx="3168720" cy="11912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 variables 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there is a tab with breakpoi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9F276-93B5-48C9-9FBE-E9BBB4952FC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witching persp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  <p:sp>
        <p:nvSpPr>
          <p:cNvPr id="198" name="Line 4"/>
          <p:cNvSpPr/>
          <p:nvPr/>
        </p:nvSpPr>
        <p:spPr>
          <a:xfrm flipV="1">
            <a:off x="4448160" y="1476000"/>
            <a:ext cx="3579840" cy="303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276720" y="4508640"/>
            <a:ext cx="352728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between Debug and Modelica Persp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4FD4A-41A2-4A09-9584-DEB8CA5239B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repeat the procedure for 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leave open only the project you are working on!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ose all the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CC060-0660-4D9F-820D-8D61B6AEFF31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Building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98360" y="620640"/>
            <a:ext cx="862164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4C49C-ED65-4638-BE1E-8DC429267B2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Opening vi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396720" y="620640"/>
            <a:ext cx="8352000" cy="626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5580000" y="836640"/>
            <a:ext cx="2924280" cy="5819760"/>
          </a:xfrm>
          <a:prstGeom prst="rect">
            <a:avLst/>
          </a:prstGeom>
          <a:ln w="0">
            <a:noFill/>
          </a:ln>
        </p:spPr>
      </p:pic>
      <p:sp>
        <p:nvSpPr>
          <p:cNvPr id="210" name="Line 5"/>
          <p:cNvSpPr/>
          <p:nvPr/>
        </p:nvSpPr>
        <p:spPr>
          <a:xfrm>
            <a:off x="4572000" y="2060640"/>
            <a:ext cx="100800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733400" y="5445000"/>
            <a:ext cx="382752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open additional vie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7b1c15"/>
                </a:solidFill>
                <a:latin typeface="Times New Roman"/>
              </a:rPr>
              <a:t>Window-&gt;ShowView-&gt;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1DFF4-2C6E-476B-8253-3D7EAB04238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clipse and Exercise Set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02b_exp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a_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5b_modassigntwo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6_adv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7_OMCAndCor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8-11 – as samples of Prog. Lang. mod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6CA11-AEFE-4D68-90A4-E14A65A362F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25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Each exercise is in a different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ll exercises hav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README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- information about the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– the solution of the exercise (if the exercise has some implementation assign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program.txt</a:t>
            </a:r>
            <a:r>
              <a:rPr b="1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– input program to the exercise, edit if needed (for the exercises which have an 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nsult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MetaModelica Programming Guid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(1.0 Draft or 2.0) and the slides if you need additional information during the exerci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Of course, feel free to ask us any type of questions, it is faster and bett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6C618-5B2F-48D6-9D8D-0D33DF02AF9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-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1_experi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functions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display the constants defined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Main.mo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Functions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A50F9-0BE9-41DF-B4FF-34ADF23C7FF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a_exp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will add new constructs to the exp1 language and deal with their eval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- add new constructs to the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power operator   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^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 factorial operat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(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N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parser/lexer are ready, but give parser errors for the new operators until they are added in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Exp1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89ACA-5467-4E0D-9823-34432B7B0C64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2b_ex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model the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1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language using different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Exp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t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Explore th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2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 and compare it with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Exp1.mo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fi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610E7-D66F-4180-8A14-2AE216151B3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3_symbolic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derive ‘-’, ‘*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rules to simplify ‘-’, sine, cosine and power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SymbolicDerivative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DA9AF-8E21-4F0F-ADD9-B06146FD180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4_assig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assignments present in the current program before the actu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environment after it was augmented with the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8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ment.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A6DC1-0063-427E-BF6E-B18447BE1C7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a_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- add functions to prin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a new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ype which can hold only integers as strings to the current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xp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n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add cases to evaluate expressions/assignments of the form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"2" + 1 + "1" + 1.0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i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eval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search for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  <a:ea typeface="DejaVu Sans"/>
              </a:rPr>
              <a:t>// your code here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within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AssignTwoType.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4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88822-D022-44A4-BC27-7B41E09347B3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5b_modassigntwo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explore a different way to structure your code within different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e code from 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05a_assigntwotyp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s now split over 4 pack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Compare the 05a/b proj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FEF3E-D2E4-4917-87E7-357767CD27D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In this exercise you experiment w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polymorphic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higher order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function that orders a list of any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function has as input a list and a compare function between the objects of that lis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e comparison functions for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Integers</a:t>
            </a:r>
            <a:r>
              <a:rPr b="0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,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String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and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Reals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9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est your function on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77872-8D71-4915-B29A-9619137F8E0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</a:rPr>
              <a:t>Assignmen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function over a list and returns a new list with the resul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three functions that transform fro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re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integer to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real to str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your map function and the two transformation functions to transform the </a:t>
            </a:r>
            <a:r>
              <a:rPr b="1" lang="en-US" sz="2400" spc="-1" strike="noStrike">
                <a:solidFill>
                  <a:srgbClr val="213159"/>
                </a:solidFill>
                <a:latin typeface="Courier New"/>
                <a:ea typeface="DejaVu Sans"/>
              </a:rPr>
              <a:t>Types.intList</a:t>
            </a: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 to a list of reals and a list of string, then apply the ordering function from Assignment 1 on the newly created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146C5-C05C-4327-AEAE-498C60C78E2B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ed Exercises in this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60320" indent="-279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0_simples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1_exper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2a_exp1, (02b_exp2 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3_symbolicderiv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0320" indent="-27936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760320"/>
                <a:tab algn="l" pos="1208160"/>
                <a:tab algn="l" pos="1657440"/>
                <a:tab algn="l" pos="2106720"/>
                <a:tab algn="l" pos="2556000"/>
                <a:tab algn="l" pos="3005280"/>
                <a:tab algn="l" pos="3454560"/>
                <a:tab algn="l" pos="3903840"/>
                <a:tab algn="l" pos="4352760"/>
                <a:tab algn="l" pos="4802040"/>
                <a:tab algn="l" pos="5251320"/>
                <a:tab algn="l" pos="5700600"/>
                <a:tab algn="l" pos="6149880"/>
                <a:tab algn="l" pos="6599160"/>
                <a:tab algn="l" pos="7048440"/>
                <a:tab algn="l" pos="7497720"/>
                <a:tab algn="l" pos="7947000"/>
                <a:tab algn="l" pos="8396280"/>
                <a:tab algn="l" pos="8845560"/>
                <a:tab algn="l" pos="9294840"/>
                <a:tab algn="l" pos="97441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04_assignment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56F32-214D-4063-98FE-AA9F5B7FC92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6_advanced (II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Assignment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Write a polymorphic map function that applies a print function over a list (of Strings) and prints the i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Use the transformer functions from real-&gt;string and integer-&gt;string from Assignment 2 to transform the real list or the integer list to a string list for pri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Compare your solution with the </a:t>
            </a:r>
            <a:r>
              <a:rPr b="1" lang="en-US" sz="2800" spc="-1" strike="noStrike">
                <a:solidFill>
                  <a:srgbClr val="7b1c15"/>
                </a:solidFill>
                <a:latin typeface="Courier New"/>
              </a:rPr>
              <a:t>SOLUTION.txt</a:t>
            </a: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 you find in the Eclips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87035-86C5-4EC3-B09E-9E710807B060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MC Overvie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213159"/>
                </a:solidFill>
                <a:latin typeface="Trebuchet MS"/>
              </a:rPr>
              <a:t>We are Switching to OMC Overview now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40129-506B-4E94-99A3-040080F7050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76160" y="-4644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Development Toolkit (OMDev)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MDev is a pre-packaged pre-compiled kit containing all tools needed for OpenModelica development.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Just unpack and set some environment variables. (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pt-get build-dep openmodelica (Ubuntu/Debian Linux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lnSpc>
                <a:spcPct val="8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ort  install depends:openmodelica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MetaModelica Compiler (MMC) – for developing OMC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penModelica Compiler (OMC) – for browsing suppor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clipse plugin MDT – (Modelica Development Tooling), e.g. for compiler (OMC) develop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re-compiled Corba (MICO or omniORB) for tool communication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Packaged Gnu compiler (GCC; Mingw version for Windows)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Emacs mod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Subversion for version handling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Online (web) Codebeamer for bug reporting and management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Automatic regression testing using a test suite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Unit testing using the bootstrapped OpenModelica Compil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  <a:p>
            <a:pPr marL="277920" indent="-277920">
              <a:lnSpc>
                <a:spcPct val="8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213159"/>
                </a:solidFill>
                <a:latin typeface="Trebuchet MS"/>
              </a:rPr>
              <a:t>Interactive MetaModelica debugger</a:t>
            </a:r>
            <a:endParaRPr b="0" lang="en-US" sz="2000" spc="-1" strike="noStrike">
              <a:solidFill>
                <a:srgbClr val="213159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F380D-7242-4608-9BF5-C7C7D309FEE5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250920" y="-7920"/>
            <a:ext cx="877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Environment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04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4040"/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0" y="2614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546120" y="1509840"/>
          <a:ext cx="7918560" cy="39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09840"/>
                    <a:ext cx="7918560" cy="39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0AC7E-6679-4DD2-864C-15B06F383EE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lient-Server Archite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33360" y="1201680"/>
          <a:ext cx="657072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1201680"/>
                    <a:ext cx="657072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99061-4520-4C7A-9A59-B4BB5272D63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leased in OpenModelica 1.7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Compiler/Interpreter – OM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teractive session handler – OMSh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Notebook with DrModelica and DrControl –  OM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penModelica Eclipse plugin MD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OMEdit connection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MetaModelica Debu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New version in OpenModelica 1.8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3FF63-B888-4607-A7E9-D7421FAB444C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penModelica Compiler/Interpr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03040" y="1125360"/>
            <a:ext cx="876312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OpenModelica 1.7.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Currently implemented in 194 000 lines of MetaModelica (excl. generated code, external C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Includes code generation, BLT-transformation, index reduction, connection to DASSL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Most of the Modelica 3.1 language including classes, functions, inheritance, modifications, import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15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213159"/>
                </a:solidFill>
                <a:latin typeface="Trebuchet MS"/>
              </a:rPr>
              <a:t>Hybrid/Discrete event supp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BC1D1-CAE2-46CB-8AC7-CFF25FDB50CA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orba Client-Server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04920" y="914400"/>
            <a:ext cx="71247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Simple text-based (string) communication in Modelica Synt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9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API supporting model structure query and up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35040" y="2803680"/>
            <a:ext cx="7149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Call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fulfill the normal Modelica function call syntax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veModel("MyResistorFile.mo",MyResis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ave the model MyResistor into the file “MyResistorFile.mo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reating new models it is most practical to send a model, e.g.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el Foo   end Foo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e.g.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or Port   end Por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0B720-38F9-47A1-AA6E-B5A7504D6C2D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f the Corba API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03040" y="765000"/>
          <a:ext cx="8510760" cy="24054120"/>
        </p:xfrm>
        <a:graphic>
          <a:graphicData uri="http://schemas.openxmlformats.org/drawingml/2006/table">
            <a:tbl>
              <a:tblPr/>
              <a:tblGrid>
                <a:gridCol w="3237120"/>
                <a:gridCol w="5273640"/>
              </a:tblGrid>
              <a:tr h="4921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saveModel(A1&lt;string&gt;,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33516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r" pos="3392640"/>
                          <a:tab algn="l" pos="3649680"/>
                          <a:tab algn="l" pos="4564080"/>
                          <a:tab algn="l" pos="5478480"/>
                          <a:tab algn="l" pos="6392880"/>
                          <a:tab algn="l" pos="7307280"/>
                          <a:tab algn="l" pos="8221680"/>
                          <a:tab algn="l" pos="9136080"/>
                          <a:tab algn="l" pos="10050480"/>
                          <a:tab algn="l" pos="10326600"/>
                          <a:tab algn="l" pos="1077588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Saves the model (A2) in a file given by a string (A1). This call is also in typed API.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File(A1&lt;string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all models in the file. Also in typed API. Returns list of names of top level classes in the loaded fil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load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Loads the model (A1) by looking up the correct file to load i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$MODELICAPATH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Loads all models in that file into the symbol table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lass from the symbol tabl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mponent(A1&lt;ident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a component (A1) within a class (A2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mponent(A1&lt;ident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mponent with name (A1), type (A2), and class (A3) as arguments. Optional annotations are given with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lassAnnotation(A1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annotation given by A2( in the form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 classmod(...)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the model definition referenced by A1. Should be used to add Icon Diagram and Documentation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343080" indent="-154080" algn="just">
                        <a:lnSpc>
                          <a:spcPct val="68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of the component declarations within class A1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154080" algn="just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{Atype,varidA,”commentA”},{Btype,varidB,”commentB”}, {...}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Annotations(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a lis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...}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f all annotations of all components in A1, in the same order as the components, one annotation per component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mponent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mponents in a class, e.g retur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2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there are 2 component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belonging class, component name and type name of the nth component of a clas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A.B.C,R2,Resistor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here the first component is numbered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flattened annotation record of the nth component  (A2) (the first is has no 1) within class/component A1. Consists of a comma separated string of 15 values, see Annotations in Section 2.4.4 below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false,10,30,...”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GB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mponentModification(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??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modification of the nth component  (A2) where the first  has no 1) of class/component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nheritance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inherited classes of a clas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InheritedClass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type name of the nth inherited class of a class. The first class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(as a string) of connections in the model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, as a comma separated pair of connectors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R1.n,R2.p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i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ion annotation as comma separated list of values of a flattened record, see Annotations in Section 2.4.4  below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Connection(A1&lt;cref&gt;,A2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cref&gt;, 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connection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connect(A1,A2)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to model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with annotation given by the named argument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upda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nnotate=&lt;expr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Updates an already existing connectio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Connec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cref&gt;,A3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connection connect(A1,A2) in class given by A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ddEquation(A1&lt;cref&gt;,A2&lt;expr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3&lt;expr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Adds the equation A2=A3 to the model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Equation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equations (as a string) in the model named A1. (This includes connectio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Equ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(A2) equation of the model named by A1.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der(x)=-1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or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connect(A.b,C.a)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deleteNthEquation(A1&lt;cref&gt;,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2&lt;int&gt;)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Deletes the nth (A2) equation in the model named by A1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onnectorCou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umber of connectors (as a string) of a class A1. NOTE: partial code instantiation of inheritance is performed before investigating the connector count, in order also to get the inherited connector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 of the nth connector, e.g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“n”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 The first connector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IconAnnotation(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icon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NthConnectorDiagramAnnotation(A1&lt;cref&gt;,A2&lt;int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(NotYetImplemente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th connector diagram layer annotation as comma separated list of values of a flat record, see Annotation below. NOTE: Since connectors can be inherited, a partial instantiation of the inheritance structure is performed. The first has number 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Icon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Icon Annotation of the class named by A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87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DiagramAnnota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Diagram annotation of the class named by A1. NOTE: Since the Diagram annotations can be found in base classes a partial code instantiation is performed that flattens the inheritance hierarchy in order to find all annotation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s in a class/package named by A1 as a list, e.g.: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{Electrical,Blocks,Mechanics, Constants,Math,SIunits}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Packag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package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tions in a class/packag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Names(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names of all class definitions in the global scop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getClassRestri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the kind of restricted class of &lt;cref&gt;, e.g.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model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connector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unction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packag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, etc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Typ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imitiv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of primitive typ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necto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connecto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Recor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recor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Block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block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Function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function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is a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lass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lass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arameter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parameter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Constant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a constant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isProtected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A1 is protected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Class(A1&lt;cref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Tabl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Model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model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147960" bIns="46800" anchor="t">
                      <a:noAutofit/>
                    </a:bodyPr>
                    <a:p>
                      <a:pPr marL="285840" indent="-277920">
                        <a:lnSpc>
                          <a:spcPct val="74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existPackage(A1&lt;cref&gt;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96200" bIns="46800" anchor="t">
                      <a:noAutofit/>
                    </a:bodyPr>
                    <a:p>
                      <a:pPr marL="285840" indent="-277920" algn="just">
                        <a:lnSpc>
                          <a:spcPct val="68000"/>
                        </a:lnSpc>
                        <a:tabLst>
                          <a:tab algn="l" pos="0"/>
                          <a:tab algn="l" pos="285840"/>
                          <a:tab algn="l" pos="733320"/>
                          <a:tab algn="l" pos="1182600"/>
                          <a:tab algn="l" pos="1631880"/>
                          <a:tab algn="l" pos="2081160"/>
                          <a:tab algn="l" pos="2530440"/>
                          <a:tab algn="l" pos="2979720"/>
                          <a:tab algn="l" pos="3429000"/>
                          <a:tab algn="l" pos="3878280"/>
                          <a:tab algn="l" pos="4327560"/>
                          <a:tab algn="l" pos="4776840"/>
                          <a:tab algn="l" pos="5226120"/>
                          <a:tab algn="l" pos="5675400"/>
                          <a:tab algn="l" pos="6124680"/>
                          <a:tab algn="l" pos="6573960"/>
                          <a:tab algn="l" pos="7023240"/>
                          <a:tab algn="l" pos="7472520"/>
                          <a:tab algn="l" pos="7921800"/>
                          <a:tab algn="l" pos="8370720"/>
                          <a:tab algn="l" pos="8820000"/>
                          <a:tab algn="l" pos="926928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Returns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tru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 if class exists in symbol table and has restriction package, otherwise </a:t>
                      </a:r>
                      <a:r>
                        <a:rPr b="0" lang="en-US" sz="1000" spc="-1" strike="noStrike">
                          <a:solidFill>
                            <a:srgbClr val="213159"/>
                          </a:solidFill>
                          <a:latin typeface="Courier New"/>
                          <a:ea typeface="Times New Roman"/>
                        </a:rPr>
                        <a:t>"false"</a:t>
                      </a:r>
                      <a:r>
                        <a:rPr b="0" lang="en-US" sz="1200" spc="-1" strike="noStrike">
                          <a:solidFill>
                            <a:srgbClr val="213159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AFBDB-F92B-42EF-BC47-F297160DECE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lat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0492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ll OpenModelica GUI tools (OMShell, OMNotebook, ...) are developed on top of the Qt4 GUI library, portable between Windows, Linux, M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Both compilers (OMC, MMC) are portable between the three platforms and compiled nigh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Windows – main release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Linux – main development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  <a:ea typeface="DejaVu Sans"/>
              </a:rPr>
              <a:t>Mac –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0B5B2-DAB5-4AA7-AD4A-277CDDAF4618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Switching Work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4640" y="608040"/>
            <a:ext cx="8332920" cy="624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4371840" cy="2324160"/>
          </a:xfrm>
          <a:prstGeom prst="rect">
            <a:avLst/>
          </a:prstGeom>
          <a:ln w="0">
            <a:noFill/>
          </a:ln>
        </p:spPr>
      </p:pic>
      <p:sp>
        <p:nvSpPr>
          <p:cNvPr id="107" name="Line 5"/>
          <p:cNvSpPr/>
          <p:nvPr/>
        </p:nvSpPr>
        <p:spPr>
          <a:xfrm>
            <a:off x="2484360" y="3429000"/>
            <a:ext cx="1511280" cy="10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65200" y="1800360"/>
            <a:ext cx="4655160" cy="825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lean work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import many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7C4ED-117E-44A6-BCA5-AAA49326D65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– Switching to Java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31708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1087A-6FCE-42C8-9BF0-8D65AA50A819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xercises – 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07_OMCAnd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4000" y="914400"/>
            <a:ext cx="88390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See </a:t>
            </a:r>
            <a:r>
              <a:rPr b="1" lang="en-US" sz="3200" spc="-1" strike="noStrike">
                <a:solidFill>
                  <a:srgbClr val="7b1c15"/>
                </a:solidFill>
                <a:latin typeface="Courier New"/>
              </a:rPr>
              <a:t>README.txt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in the Eclipse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n this exercise you will send commands to the OMC Compiler (</a:t>
            </a:r>
            <a:r>
              <a:rPr b="1" lang="en-US" sz="3200" spc="-1" strike="noStrike">
                <a:solidFill>
                  <a:srgbClr val="213159"/>
                </a:solidFill>
                <a:latin typeface="Courier New"/>
              </a:rPr>
              <a:t>omc.exe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) via COR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7b1c15"/>
                </a:solidFill>
                <a:latin typeface="Trebuchet MS"/>
              </a:rPr>
              <a:t>OMCProxy.java</a:t>
            </a: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 has functionality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tarting the omc process if is not already sta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190440">
              <a:lnSpc>
                <a:spcPct val="100000"/>
              </a:lnSpc>
              <a:spcBef>
                <a:spcPts val="601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213159"/>
                </a:solidFill>
                <a:latin typeface="Trebuchet MS"/>
                <a:ea typeface="DejaVu Sans"/>
              </a:rPr>
              <a:t>the starting is a bit different for Windows/Lin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sending commands to O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  <a:ea typeface="DejaVu Sans"/>
              </a:rPr>
              <a:t>logging fac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If you need clients in C++ or Python che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rebuchet MS"/>
                <a:ea typeface="DejaVu Sans"/>
                <a:hlinkClick r:id="rId1"/>
              </a:rPr>
              <a:t>http://www.ida.liu.se/labs/pelab/modelica/OpenModelica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4200" indent="-282600">
              <a:lnSpc>
                <a:spcPct val="100000"/>
              </a:lnSpc>
              <a:spcBef>
                <a:spcPts val="4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213159"/>
                </a:solidFill>
                <a:latin typeface="Trebuchet MS"/>
                <a:ea typeface="DejaVu Sans"/>
              </a:rPr>
              <a:t>developer 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C99BB-B73F-4161-B54A-8BAF3E35FE62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clipse Setup – Creating the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468360" y="627120"/>
            <a:ext cx="8307360" cy="6230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0" y="209556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3"/>
          <a:stretch/>
        </p:blipFill>
        <p:spPr>
          <a:xfrm>
            <a:off x="4381560" y="209556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89" name="Oval 6"/>
          <p:cNvSpPr/>
          <p:nvPr/>
        </p:nvSpPr>
        <p:spPr>
          <a:xfrm>
            <a:off x="2266920" y="6308640"/>
            <a:ext cx="936720" cy="549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7"/>
          <p:cNvSpPr/>
          <p:nvPr/>
        </p:nvSpPr>
        <p:spPr>
          <a:xfrm flipV="1">
            <a:off x="3274920" y="3492000"/>
            <a:ext cx="2376720" cy="2824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1258920" y="5013360"/>
            <a:ext cx="936720" cy="1368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9"/>
          <p:cNvSpPr/>
          <p:nvPr/>
        </p:nvSpPr>
        <p:spPr>
          <a:xfrm flipH="1">
            <a:off x="1108080" y="1125360"/>
            <a:ext cx="2967120" cy="352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5ECA1-111B-4BE6-A699-CA5790DAC297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77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Administrative Ques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What would you like to implement tomorr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7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85840"/>
                <a:tab algn="l" pos="7333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7b1c15"/>
                </a:solidFill>
                <a:latin typeface="Trebuchet MS"/>
                <a:ea typeface="DejaVu Sans"/>
              </a:rPr>
              <a:t>in the OpenModelica Compil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-47880"/>
            <a:ext cx="74674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mport Projec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7920" indent="-277920">
              <a:spcBef>
                <a:spcPts val="799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213159"/>
                </a:solidFill>
                <a:latin typeface="Trebuchet MS"/>
              </a:rPr>
              <a:t>File → Import</a:t>
            </a:r>
            <a:endParaRPr b="0" lang="en-US" sz="3200" spc="-1" strike="noStrike">
              <a:solidFill>
                <a:srgbClr val="213159"/>
              </a:solidFill>
              <a:latin typeface="Trebuchet MS"/>
            </a:endParaRPr>
          </a:p>
          <a:p>
            <a:pPr lvl="1" marL="754200" indent="-282600">
              <a:spcBef>
                <a:spcPts val="700"/>
              </a:spcBef>
              <a:buClr>
                <a:srgbClr val="99abd9"/>
              </a:buClr>
              <a:buFont typeface="Wingdings" charset="2"/>
              <a:buChar char=""/>
              <a:tabLst>
                <a:tab algn="l" pos="277920"/>
                <a:tab algn="l" pos="382680"/>
                <a:tab algn="l" pos="831960"/>
                <a:tab algn="l" pos="1281240"/>
                <a:tab algn="l" pos="1730520"/>
                <a:tab algn="l" pos="2179800"/>
                <a:tab algn="l" pos="2629080"/>
                <a:tab algn="l" pos="3078000"/>
                <a:tab algn="l" pos="3527280"/>
                <a:tab algn="l" pos="3976560"/>
                <a:tab algn="l" pos="4425840"/>
                <a:tab algn="l" pos="4875120"/>
                <a:tab algn="l" pos="5324400"/>
                <a:tab algn="l" pos="5773680"/>
                <a:tab algn="l" pos="6222960"/>
                <a:tab algn="l" pos="6672240"/>
                <a:tab algn="l" pos="7121520"/>
                <a:tab algn="l" pos="7570800"/>
                <a:tab algn="l" pos="8020080"/>
                <a:tab algn="l" pos="8469360"/>
                <a:tab algn="l" pos="8918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213159"/>
                </a:solidFill>
                <a:latin typeface="Trebuchet MS"/>
              </a:rPr>
              <a:t>General → Existing projects into workspace</a:t>
            </a:r>
            <a:endParaRPr b="0" lang="en-US" sz="2800" spc="-1" strike="noStrike">
              <a:solidFill>
                <a:srgbClr val="213159"/>
              </a:solidFill>
              <a:latin typeface="Trebuchet MS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2340000"/>
            <a:ext cx="9144000" cy="39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A6FC6-574D-437A-89EF-E4CC9C07D54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lect and Open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E2C5B-6B9D-478A-9AE3-CC56761D8CCE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on't build projects automa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23840" y="720720"/>
            <a:ext cx="8877240" cy="52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8186760" y="649620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9E633-F535-46E4-BCD6-30038E5BA47F}" type="slidenum">
              <a:rPr b="1" lang="en-US" sz="1600" spc="-1" strike="noStrike">
                <a:solidFill>
                  <a:srgbClr val="7b1c15"/>
                </a:solidFill>
                <a:latin typeface="Optima Medium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1676520" y="0"/>
            <a:ext cx="746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fresh all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80360" cy="573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2:12:12Z</dcterms:created>
  <dc:creator>Adrian Pop [adrpo@ida.liu.se, http://www.ida.liu.se/~adrpo]</dc:creator>
  <dc:description/>
  <dc:language>en-US</dc:language>
  <cp:lastModifiedBy>Martin Sjolund</cp:lastModifiedBy>
  <cp:lastPrinted>2001-06-05T14:43:50Z</cp:lastPrinted>
  <dcterms:modified xsi:type="dcterms:W3CDTF">2011-09-17T10:39:23Z</dcterms:modified>
  <cp:revision>69</cp:revision>
  <dc:subject>MetaModelica</dc:subject>
  <dc:title>MetaModelica Tutorial and Exercises</dc:title>
</cp:coreProperties>
</file>