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0720" y="767880"/>
            <a:ext cx="5108400" cy="382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0720" cy="4594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75954-39F1-45F3-A9F3-4CC9A2A80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A6ECB-D43D-4E90-A4E0-4AEAC67B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46664-6413-4722-A5A2-14229786A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28522-0AE3-44D3-8B46-5C48C3CC8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D9FEF-46C8-4AE3-BD55-70FBB8E6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CDD8E-4219-4B6F-AC38-7E8FCF7CE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90B0F-7FB3-4793-BA44-875163B9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88257-E464-4402-B0BC-397AD291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4D4DC-F8A7-45AE-88AD-B8AEADBB6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E7BD1-2285-4307-9B4F-CBAD41592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43F0E-BFCE-40F9-A46D-CDF0B9AC1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42565-9E87-4250-85BA-3FA33C1EE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AFBFC-1CAB-4A0B-9A15-C31EAFE33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041EC-CD0E-49B5-BE46-955D3BFB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E581B-191B-4C83-8F95-4CF8B7F12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BCA11-0639-4BA6-B40A-1B740B543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FF87B-3722-4A9D-A6E0-04B1F831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6D9F0-ED5E-44E5-83F0-57A296A5A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A18C2-77D8-435C-AE62-073A0595F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9ECFA-03AF-4517-91AE-A43CD362E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C19C6-AA68-419B-ABCA-AEC3F3A4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6273B-4758-46F3-9440-1CC91C8A5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73676-940F-462D-AC4A-DC137843A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D2072-308C-4E78-821B-CC8335DB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28CFB-A971-465D-A3C6-F2C11601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88F4B-11D6-4BBE-A5D5-AEFF529B9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958D3-9318-4D49-A50F-74E4F1BB9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CBAF9-D68D-413B-9CE5-0066B900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D4A01-EB53-4153-B9DA-44AF2D2D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1245A-AEA3-44D7-8308-AD7C008F4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0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542880" y="644832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2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A7D33-79C7-4074-8549-9C7A8D6F5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319120" y="4691160"/>
            <a:ext cx="493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OpenModelica Course, 2011-09-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622440" y="1536840"/>
            <a:ext cx="5902200" cy="4483080"/>
            <a:chOff x="622440" y="1536840"/>
            <a:chExt cx="5902200" cy="4483080"/>
          </a:xfrm>
        </p:grpSpPr>
        <p:sp>
          <p:nvSpPr>
            <p:cNvPr id="185" name="Rectangle 3"/>
            <p:cNvSpPr/>
            <p:nvPr/>
          </p:nvSpPr>
          <p:spPr>
            <a:xfrm>
              <a:off x="754200" y="1687680"/>
              <a:ext cx="5540400" cy="4332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622440" y="1536840"/>
              <a:ext cx="5575320" cy="43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663480" y="1554120"/>
              <a:ext cx="586116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77840" y="1095480"/>
            <a:ext cx="4340160" cy="5022720"/>
            <a:chOff x="177840" y="1095480"/>
            <a:chExt cx="4340160" cy="5022720"/>
          </a:xfrm>
        </p:grpSpPr>
        <p:sp>
          <p:nvSpPr>
            <p:cNvPr id="203" name="Rectangle 4"/>
            <p:cNvSpPr/>
            <p:nvPr/>
          </p:nvSpPr>
          <p:spPr>
            <a:xfrm>
              <a:off x="247680" y="1247760"/>
              <a:ext cx="427032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177840" y="1130400"/>
              <a:ext cx="4292640" cy="49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208080" y="1095480"/>
              <a:ext cx="422424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0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7"/>
          <p:cNvGrpSpPr/>
          <p:nvPr/>
        </p:nvGrpSpPr>
        <p:grpSpPr>
          <a:xfrm>
            <a:off x="4648320" y="1095480"/>
            <a:ext cx="4354560" cy="5046480"/>
            <a:chOff x="4648320" y="1095480"/>
            <a:chExt cx="4354560" cy="5046480"/>
          </a:xfrm>
        </p:grpSpPr>
        <p:sp>
          <p:nvSpPr>
            <p:cNvPr id="207" name="Rectangle 8"/>
            <p:cNvSpPr/>
            <p:nvPr/>
          </p:nvSpPr>
          <p:spPr>
            <a:xfrm>
              <a:off x="4719600" y="1247760"/>
              <a:ext cx="4283280" cy="4894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4648320" y="1130400"/>
              <a:ext cx="430524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4676760" y="1095480"/>
              <a:ext cx="423720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1447920" y="1206360"/>
            <a:ext cx="6804000" cy="4327560"/>
            <a:chOff x="1447920" y="1206360"/>
            <a:chExt cx="6804000" cy="4327560"/>
          </a:xfrm>
        </p:grpSpPr>
        <p:sp>
          <p:nvSpPr>
            <p:cNvPr id="213" name="Rectangle 4"/>
            <p:cNvSpPr/>
            <p:nvPr/>
          </p:nvSpPr>
          <p:spPr>
            <a:xfrm>
              <a:off x="1569960" y="1325520"/>
              <a:ext cx="6681960" cy="420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1447920" y="1206360"/>
              <a:ext cx="6681600" cy="420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1455840" y="1222200"/>
              <a:ext cx="66387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201680" y="3262320"/>
            <a:ext cx="4556160" cy="1596960"/>
            <a:chOff x="1201680" y="3262320"/>
            <a:chExt cx="4556160" cy="1596960"/>
          </a:xfrm>
        </p:grpSpPr>
        <p:sp>
          <p:nvSpPr>
            <p:cNvPr id="221" name="Rectangle 4"/>
            <p:cNvSpPr/>
            <p:nvPr/>
          </p:nvSpPr>
          <p:spPr>
            <a:xfrm>
              <a:off x="1282680" y="3308400"/>
              <a:ext cx="4475160" cy="155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1201680" y="3262320"/>
              <a:ext cx="4475160" cy="15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127080" y="1171440"/>
            <a:ext cx="4468680" cy="5021280"/>
            <a:chOff x="127080" y="1171440"/>
            <a:chExt cx="4468680" cy="5021280"/>
          </a:xfrm>
        </p:grpSpPr>
        <p:sp>
          <p:nvSpPr>
            <p:cNvPr id="230" name="Rectangle 4"/>
            <p:cNvSpPr/>
            <p:nvPr/>
          </p:nvSpPr>
          <p:spPr>
            <a:xfrm>
              <a:off x="200160" y="1324080"/>
              <a:ext cx="4395600" cy="486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27080" y="1204920"/>
              <a:ext cx="4417920" cy="49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155520" y="1171440"/>
              <a:ext cx="434808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4711680" y="1158840"/>
            <a:ext cx="4429080" cy="5046840"/>
            <a:chOff x="4711680" y="1158840"/>
            <a:chExt cx="4429080" cy="5046840"/>
          </a:xfrm>
        </p:grpSpPr>
        <p:sp>
          <p:nvSpPr>
            <p:cNvPr id="234" name="Rectangle 8"/>
            <p:cNvSpPr/>
            <p:nvPr/>
          </p:nvSpPr>
          <p:spPr>
            <a:xfrm>
              <a:off x="4782960" y="1311120"/>
              <a:ext cx="4357800" cy="4894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4711680" y="1193760"/>
              <a:ext cx="437976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4741920" y="1158840"/>
              <a:ext cx="430992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let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258840" y="2111400"/>
            <a:ext cx="8883720" cy="1846080"/>
            <a:chOff x="258840" y="2111400"/>
            <a:chExt cx="8883720" cy="1846080"/>
          </a:xfrm>
        </p:grpSpPr>
        <p:sp>
          <p:nvSpPr>
            <p:cNvPr id="240" name="Rectangle 4"/>
            <p:cNvSpPr/>
            <p:nvPr/>
          </p:nvSpPr>
          <p:spPr>
            <a:xfrm>
              <a:off x="401760" y="2135160"/>
              <a:ext cx="874080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258840" y="2111400"/>
              <a:ext cx="874080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6"/>
          <p:cNvGrpSpPr/>
          <p:nvPr/>
        </p:nvGrpSpPr>
        <p:grpSpPr>
          <a:xfrm>
            <a:off x="217440" y="3975120"/>
            <a:ext cx="8925120" cy="2143080"/>
            <a:chOff x="217440" y="3975120"/>
            <a:chExt cx="8925120" cy="2143080"/>
          </a:xfrm>
        </p:grpSpPr>
        <p:sp>
          <p:nvSpPr>
            <p:cNvPr id="243" name="Rectangle 7"/>
            <p:cNvSpPr/>
            <p:nvPr/>
          </p:nvSpPr>
          <p:spPr>
            <a:xfrm>
              <a:off x="378000" y="4033800"/>
              <a:ext cx="8764560" cy="208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8"/>
            <p:cNvSpPr/>
            <p:nvPr/>
          </p:nvSpPr>
          <p:spPr>
            <a:xfrm>
              <a:off x="217440" y="3975120"/>
              <a:ext cx="8764560" cy="20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9"/>
            <p:cNvSpPr/>
            <p:nvPr/>
          </p:nvSpPr>
          <p:spPr>
            <a:xfrm>
              <a:off x="228600" y="3979800"/>
              <a:ext cx="87058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Map&lt;Type_a&gt; "Map over elements of type Type_a,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41200" y="2933640"/>
            <a:ext cx="8634600" cy="1459080"/>
            <a:chOff x="241200" y="2933640"/>
            <a:chExt cx="8634600" cy="1459080"/>
          </a:xfrm>
        </p:grpSpPr>
        <p:sp>
          <p:nvSpPr>
            <p:cNvPr id="249" name="Rectangle 4"/>
            <p:cNvSpPr/>
            <p:nvPr/>
          </p:nvSpPr>
          <p:spPr>
            <a:xfrm>
              <a:off x="396720" y="2973240"/>
              <a:ext cx="8479080" cy="141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241200" y="2933640"/>
              <a:ext cx="8479080" cy="14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252360" y="2938320"/>
              <a:ext cx="8421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7"/>
          <p:cNvGrpSpPr/>
          <p:nvPr/>
        </p:nvGrpSpPr>
        <p:grpSpPr>
          <a:xfrm>
            <a:off x="254160" y="4559400"/>
            <a:ext cx="8672400" cy="1636560"/>
            <a:chOff x="254160" y="4559400"/>
            <a:chExt cx="8672400" cy="1636560"/>
          </a:xfrm>
        </p:grpSpPr>
        <p:sp>
          <p:nvSpPr>
            <p:cNvPr id="253" name="Rectangle 8"/>
            <p:cNvSpPr/>
            <p:nvPr/>
          </p:nvSpPr>
          <p:spPr>
            <a:xfrm>
              <a:off x="411120" y="4605480"/>
              <a:ext cx="8515440" cy="1590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254160" y="4559400"/>
              <a:ext cx="8515080" cy="159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264960" y="4564080"/>
              <a:ext cx="8458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888840" y="4660920"/>
            <a:ext cx="7083720" cy="1370160"/>
            <a:chOff x="888840" y="4660920"/>
            <a:chExt cx="7083720" cy="1370160"/>
          </a:xfrm>
        </p:grpSpPr>
        <p:sp>
          <p:nvSpPr>
            <p:cNvPr id="261" name="Rectangle 4"/>
            <p:cNvSpPr/>
            <p:nvPr/>
          </p:nvSpPr>
          <p:spPr>
            <a:xfrm>
              <a:off x="1015920" y="4699080"/>
              <a:ext cx="6956640" cy="1332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888840" y="4660920"/>
              <a:ext cx="6956640" cy="13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896760" y="4665600"/>
              <a:ext cx="6910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Option&lt;Type_a&g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7"/>
          <p:cNvGrpSpPr/>
          <p:nvPr/>
        </p:nvGrpSpPr>
        <p:grpSpPr>
          <a:xfrm>
            <a:off x="914400" y="2082960"/>
            <a:ext cx="6727680" cy="769680"/>
            <a:chOff x="914400" y="2082960"/>
            <a:chExt cx="6727680" cy="769680"/>
          </a:xfrm>
        </p:grpSpPr>
        <p:sp>
          <p:nvSpPr>
            <p:cNvPr id="265" name="Rectangle 8"/>
            <p:cNvSpPr/>
            <p:nvPr/>
          </p:nvSpPr>
          <p:spPr>
            <a:xfrm>
              <a:off x="1035000" y="2103480"/>
              <a:ext cx="6607080" cy="749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914400" y="2082960"/>
              <a:ext cx="6607080" cy="74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920880" y="2085840"/>
              <a:ext cx="65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876240" y="4394160"/>
            <a:ext cx="6703920" cy="1164240"/>
            <a:chOff x="876240" y="4394160"/>
            <a:chExt cx="6703920" cy="1164240"/>
          </a:xfrm>
        </p:grpSpPr>
        <p:sp>
          <p:nvSpPr>
            <p:cNvPr id="271" name="Rectangle 4"/>
            <p:cNvSpPr/>
            <p:nvPr/>
          </p:nvSpPr>
          <p:spPr>
            <a:xfrm>
              <a:off x="1025640" y="4427640"/>
              <a:ext cx="6291000" cy="944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876240" y="4394160"/>
              <a:ext cx="6330960" cy="9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925560" y="4398840"/>
              <a:ext cx="6654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79280" y="3192480"/>
            <a:ext cx="5218200" cy="1846080"/>
            <a:chOff x="179280" y="3192480"/>
            <a:chExt cx="5218200" cy="1846080"/>
          </a:xfrm>
        </p:grpSpPr>
        <p:sp>
          <p:nvSpPr>
            <p:cNvPr id="282" name="Rectangle 4"/>
            <p:cNvSpPr/>
            <p:nvPr/>
          </p:nvSpPr>
          <p:spPr>
            <a:xfrm>
              <a:off x="263520" y="3216240"/>
              <a:ext cx="513396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>
              <a:off x="179280" y="3192480"/>
              <a:ext cx="513396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3060720" y="3600360"/>
            <a:ext cx="5757840" cy="2697120"/>
            <a:chOff x="3060720" y="3600360"/>
            <a:chExt cx="5757840" cy="2697120"/>
          </a:xfrm>
        </p:grpSpPr>
        <p:sp>
          <p:nvSpPr>
            <p:cNvPr id="285" name="Rectangle 7"/>
            <p:cNvSpPr/>
            <p:nvPr/>
          </p:nvSpPr>
          <p:spPr>
            <a:xfrm>
              <a:off x="3152880" y="3633840"/>
              <a:ext cx="5665680" cy="266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3060720" y="3600360"/>
              <a:ext cx="5665680" cy="266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77840" y="1006560"/>
            <a:ext cx="89661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s-express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spring 2011 (excluding garbage collec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any of these features come from functional programming languag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282680" y="2120760"/>
            <a:ext cx="4049640" cy="2970360"/>
            <a:chOff x="1282680" y="2120760"/>
            <a:chExt cx="4049640" cy="2970360"/>
          </a:xfrm>
        </p:grpSpPr>
        <p:sp>
          <p:nvSpPr>
            <p:cNvPr id="115" name="Rectangle 4"/>
            <p:cNvSpPr/>
            <p:nvPr/>
          </p:nvSpPr>
          <p:spPr>
            <a:xfrm>
              <a:off x="1355760" y="2281320"/>
              <a:ext cx="3976560" cy="2809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1282680" y="2120760"/>
              <a:ext cx="3976560" cy="28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1287360" y="2131920"/>
              <a:ext cx="39499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4000680" y="1816200"/>
            <a:ext cx="5065560" cy="1458720"/>
            <a:chOff x="4000680" y="1816200"/>
            <a:chExt cx="5065560" cy="1458720"/>
          </a:xfrm>
        </p:grpSpPr>
        <p:sp>
          <p:nvSpPr>
            <p:cNvPr id="121" name="Rectangle 4"/>
            <p:cNvSpPr/>
            <p:nvPr/>
          </p:nvSpPr>
          <p:spPr>
            <a:xfrm>
              <a:off x="4054320" y="1882800"/>
              <a:ext cx="5011920" cy="139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4000680" y="1816200"/>
              <a:ext cx="5011560" cy="13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006800" y="1822320"/>
              <a:ext cx="4978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6814080" y="3884760"/>
            <a:ext cx="1376640" cy="1285560"/>
            <a:chOff x="6814080" y="3884760"/>
            <a:chExt cx="1376640" cy="1285560"/>
          </a:xfrm>
        </p:grpSpPr>
        <p:sp>
          <p:nvSpPr>
            <p:cNvPr id="126" name="Rectangle 9"/>
            <p:cNvSpPr/>
            <p:nvPr/>
          </p:nvSpPr>
          <p:spPr>
            <a:xfrm>
              <a:off x="724824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681408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6958080" y="477828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6958080" y="49561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6958080" y="4778280"/>
              <a:ext cx="12600" cy="176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693036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787284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8040600" y="4778280"/>
              <a:ext cx="1296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8040600" y="4956120"/>
              <a:ext cx="1296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8040600" y="4778280"/>
              <a:ext cx="1296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795708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507440" y="38847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695808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695808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805500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0744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Rectangle 27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240000" y="2165400"/>
            <a:ext cx="5749920" cy="2692440"/>
            <a:chOff x="3240000" y="2165400"/>
            <a:chExt cx="5749920" cy="2692440"/>
          </a:xfrm>
        </p:grpSpPr>
        <p:sp>
          <p:nvSpPr>
            <p:cNvPr id="147" name="Rectangle 3"/>
            <p:cNvSpPr/>
            <p:nvPr/>
          </p:nvSpPr>
          <p:spPr>
            <a:xfrm>
              <a:off x="3300480" y="2287440"/>
              <a:ext cx="5689440" cy="2570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3240000" y="2165400"/>
              <a:ext cx="5689800" cy="25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5"/>
          <p:cNvSpPr/>
          <p:nvPr/>
        </p:nvSpPr>
        <p:spPr>
          <a:xfrm>
            <a:off x="3213000" y="1316160"/>
            <a:ext cx="57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144360" y="2158920"/>
            <a:ext cx="2986200" cy="2129040"/>
            <a:chOff x="144360" y="2158920"/>
            <a:chExt cx="2986200" cy="2129040"/>
          </a:xfrm>
        </p:grpSpPr>
        <p:sp>
          <p:nvSpPr>
            <p:cNvPr id="152" name="Rectangle 8"/>
            <p:cNvSpPr/>
            <p:nvPr/>
          </p:nvSpPr>
          <p:spPr>
            <a:xfrm>
              <a:off x="144360" y="2158920"/>
              <a:ext cx="2986200" cy="21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>
              <a:off x="1117440" y="2158920"/>
              <a:ext cx="65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1928520" y="2982960"/>
              <a:ext cx="614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63080" y="29829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514440" y="321804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514440" y="33955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514440" y="3218040"/>
              <a:ext cx="12600" cy="176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42912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27260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1623960" y="3863880"/>
              <a:ext cx="1260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1623960" y="4041720"/>
              <a:ext cx="1260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1623960" y="3863880"/>
              <a:ext cx="1260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159624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236952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2706840" y="3863880"/>
              <a:ext cx="12600" cy="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2706840" y="4041720"/>
              <a:ext cx="12600" cy="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2706840" y="3863880"/>
              <a:ext cx="12600" cy="176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262296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27"/>
            <p:cNvSpPr/>
            <p:nvPr/>
          </p:nvSpPr>
          <p:spPr>
            <a:xfrm>
              <a:off x="541440" y="2970360"/>
              <a:ext cx="12600" cy="10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28"/>
            <p:cNvSpPr/>
            <p:nvPr/>
          </p:nvSpPr>
          <p:spPr>
            <a:xfrm>
              <a:off x="541440" y="2421000"/>
              <a:ext cx="834840" cy="5601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9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0"/>
            <p:cNvSpPr/>
            <p:nvPr/>
          </p:nvSpPr>
          <p:spPr>
            <a:xfrm>
              <a:off x="2173320" y="297036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1"/>
            <p:cNvSpPr/>
            <p:nvPr/>
          </p:nvSpPr>
          <p:spPr>
            <a:xfrm>
              <a:off x="1363680" y="2421000"/>
              <a:ext cx="820800" cy="56016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2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3"/>
            <p:cNvSpPr/>
            <p:nvPr/>
          </p:nvSpPr>
          <p:spPr>
            <a:xfrm>
              <a:off x="1623960" y="36432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4"/>
            <p:cNvSpPr/>
            <p:nvPr/>
          </p:nvSpPr>
          <p:spPr>
            <a:xfrm>
              <a:off x="162396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36"/>
            <p:cNvSpPr/>
            <p:nvPr/>
          </p:nvSpPr>
          <p:spPr>
            <a:xfrm>
              <a:off x="2720880" y="364320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37"/>
            <p:cNvSpPr/>
            <p:nvPr/>
          </p:nvSpPr>
          <p:spPr>
            <a:xfrm>
              <a:off x="217332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Rectangle 38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olund</cp:lastModifiedBy>
  <dcterms:modified xsi:type="dcterms:W3CDTF">2011-09-15T15:53:00Z</dcterms:modified>
  <cp:revision>576</cp:revision>
  <dc:subject/>
  <dc:title>Slide 1</dc:title>
</cp:coreProperties>
</file>