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EE2F5-4DF8-4F76-A0DF-F5063B42AA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EA300-CE58-4136-A6E7-BED4575CDB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5D2B6-5DD9-4BBA-8C5E-F9F5550285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C340A-2C55-4C8B-A0D3-03D59915A2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C91E3-3D6F-4FFF-816B-74C50B91D3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61126-0D94-450C-8C57-2904E02537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87FB6-358A-47B0-862B-95E7A42110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D8766-D7C0-44E8-896D-FAB68F8275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4B9C0-F21B-4C3C-9A22-C46D0C62B3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A64BB-6623-4342-9791-597B419862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6C21E-BA16-4E6C-BBB0-A3C41BDFAD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F2292-3DC5-4F6C-B63C-E61FE04963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3D3C9-41D4-42E0-920F-ECAA23D8FF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8311F-AB4F-4D86-AF25-C4651F9932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C5FC2-95AC-48B8-8E3C-3F7FA87874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51ABF-59C1-4697-823D-F893E9A038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BE227-05FC-468D-ACE3-FFEE62DA9A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C8EC5-1295-45A7-A4B1-4811A93636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B8D92-7DF0-45C3-8968-3C4B08F1BD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62CE2-F9D3-4C78-AE2D-AADF27FB82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E4E98-444C-4078-B8F7-22753189DB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7AF34-5881-4769-A6D7-D01B1843A6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D6E03-B7BB-44AD-94B0-8F59313606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A2AFC-CB73-42B0-93F0-CC512103E6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9D1C3-6C61-4EFA-971F-F4C1A14C50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DA8DA-93C4-4E6A-90C7-4CB284B7DB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6A0EC-D252-4300-9C57-0295846069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6D3BC-32C8-4FA0-8A86-A0E0F4F6A4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BE3CA-3FEF-4F10-B5A7-6138631B2A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8592-937A-4B71-9BB8-23B27015E4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008B2-E04C-48F3-8B78-60574960EE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64FBD-0AF2-45E0-B26B-D55484FFE2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0ECC3-C6C3-4173-9CFE-CEBA0556A6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DA603-F220-44D6-B21C-BF5705BAB6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7A6B9-3D92-456A-9FCA-9A599756DB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C6E12-CB90-4075-B46E-7F18C575EC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DCFAD-F4D8-4402-95FE-958B0582D0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E9F99-FEE3-47A4-B349-F3A23F122E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D5A70-D4E0-480C-BADD-4FAB770134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D44A2-E63B-44FB-A502-46A53161F7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02537-0D79-46E5-9BB9-96776D73BC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CA81C-36D0-49B5-A443-F414943C62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10DF5-96D4-48DC-A61A-1CA735A126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AC1AD-E95D-40E7-A391-332C385133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B35BA-080D-4E62-97AB-C68EB7C0CA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16E89-1450-46DF-AC89-3F6D6B04B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D3E33-B32B-4355-9B8C-A8BFE3942D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D9162-0AEC-4E94-BDD5-F52FF66CAF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3571F-B3CE-4B73-A1F2-173A30AD52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5C627-7DD0-4CAA-83FC-D2B5C4BB19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0D9D3-447A-469A-A563-4278A0594B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9D799-1153-438E-BE71-46F40F13BD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B19C1-C9DA-4727-AB0A-F2C28DE50D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3A3F3-D6FF-4231-A8F4-4F4C1C14E5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A7CC5-DF34-499F-A2CB-3778EAED04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044BA-3FB3-4DEA-B207-8B71754D51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3DB89-4056-4056-B562-29B4A90E4B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2DAE2-E3BC-4579-B3C7-9194989A86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1D2E4-0527-400E-ADAF-C06E3EF350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88FA2-1032-458E-BA21-FBFD76D06D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4CBB0-0214-4C1A-A7F6-F769BA5A00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7AF9B-C9DB-437C-9615-FAD36853DD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5B32A-E20C-4188-8160-88FA2300E0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BCAFD-88B1-408E-9F8C-4A9B0917AE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75AF3-9BD2-420D-9982-4E650920B6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EF44C-ADF2-486B-9B60-AA60EFBFD8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6F239-1DAB-4298-9A9D-072B12AD6B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3AFF4-7A85-4E5F-9A19-78708EFDF8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FE171-4F32-48BF-BE98-5F5F80CFC8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6D307-3C87-4817-A044-1828B85D1F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02871-9469-4B70-A5DB-1DBE655A99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7E033-A5EF-4887-8CF2-005ABECDCC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452A5-A146-41C4-B280-B2BD1B33E2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12797-B60D-43E4-86D0-8C7D1314BE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7C2ED-E150-41E7-B28A-9DADE5FEB4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99308-CF1A-4239-8C66-9D8F75DF2C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2022F-7709-436B-BA1C-E3A8B210CE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B2F87-D785-4ECF-8931-1F6DCF8148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56631-84EF-47E9-827D-249D7F26D2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9D2B5-6500-4B33-9C87-F5EA931D8F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359F5-2AF5-4100-8AD7-6E54AAAF07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2CB9B-96EB-45B9-84D8-CCFFA402F0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7BDBD-FB8C-4A71-82AB-5E5660F6D9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66277-6815-4CEF-BD99-1B7A88B403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EA80E-15A9-4C65-A56F-24836F1501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F1516-E32F-499A-A51A-B0031C9071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5840F-4D96-4793-BE9D-63342CB512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BC3DC-549C-452D-B84D-C8A0099F17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91C7-FB46-432D-A8EF-50A8A9126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E7B7-54E8-487D-9495-85908D187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A7A2-92D4-4E24-932A-088CD8016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D7C0-69C5-432C-8B78-7A8493031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4A91-4928-4C7D-9E0B-C35203DB3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73B2-1229-4C92-BF56-F71D36AD6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889A-03F8-4129-A377-6553A9679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62FE-DC19-4309-AF3A-FD2DD0C8A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8466-02A7-4424-828F-67B74143F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BA7A-A8F4-4C9E-8366-7CD4F7D20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A012-5CBF-44A2-B37F-498E75F7B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7A8D-2FDC-4E8F-A7D6-C010F330C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D59EB-D734-47F5-9899-CBDC53AFEA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Last Updated 2011-09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2F25D-61B2-475B-8E62-10F819B1299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2695B-12D1-4978-9188-99A26A65100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E762D-3082-4A12-96BE-BF0C501887C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3968E-BB52-415F-8299-6A6A9680C05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DBA06-83F3-461D-BCB1-E5B946558C7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3AE32-9244-40EA-8724-5A9C0FAD0AC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B8F8F-29CB-4003-A599-4D4498C505B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88C53-1729-483E-8A59-B84823CC673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0D2C8-596F-4445-8A3F-45B757A241F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6F5F4-2E49-442C-89E8-56C16211233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Very recen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Run target “deps” to build depend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n run the debug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ote: Programs that require stdin do not work yet (Eclipse does not send E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print data structures using printAny(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E80F2-EE8C-4B32-A8CE-05BCEB4FAF7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5A0AF-A08B-4CC8-AB2A-61CA04A469A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457200" y="5698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846D8-701B-45F8-88B2-6CFF4E4A1F8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up the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1"/>
          <p:cNvGrpSpPr/>
          <p:nvPr/>
        </p:nvGrpSpPr>
        <p:grpSpPr>
          <a:xfrm>
            <a:off x="5028840" y="1108080"/>
            <a:ext cx="3940560" cy="1182600"/>
            <a:chOff x="5028840" y="1108080"/>
            <a:chExt cx="3940560" cy="1182600"/>
          </a:xfrm>
        </p:grpSpPr>
        <p:sp>
          <p:nvSpPr>
            <p:cNvPr id="167" name="Line 4"/>
            <p:cNvSpPr/>
            <p:nvPr/>
          </p:nvSpPr>
          <p:spPr>
            <a:xfrm flipH="1">
              <a:off x="5028840" y="1941480"/>
              <a:ext cx="152388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5562360" y="1108080"/>
              <a:ext cx="340704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location where you installed OpenModel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8"/>
          <p:cNvGrpSpPr/>
          <p:nvPr/>
        </p:nvGrpSpPr>
        <p:grpSpPr>
          <a:xfrm>
            <a:off x="174600" y="960480"/>
            <a:ext cx="3406680" cy="1554120"/>
            <a:chOff x="174600" y="960480"/>
            <a:chExt cx="3406680" cy="1554120"/>
          </a:xfrm>
        </p:grpSpPr>
        <p:sp>
          <p:nvSpPr>
            <p:cNvPr id="170" name="Text Box 5"/>
            <p:cNvSpPr/>
            <p:nvPr/>
          </p:nvSpPr>
          <p:spPr>
            <a:xfrm>
              <a:off x="174600" y="960480"/>
              <a:ext cx="34066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roject direc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877760" y="1424160"/>
              <a:ext cx="1475280" cy="109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174600" y="2669760"/>
            <a:ext cx="7750080" cy="662040"/>
            <a:chOff x="174600" y="2669760"/>
            <a:chExt cx="7750080" cy="662040"/>
          </a:xfrm>
        </p:grpSpPr>
        <p:sp>
          <p:nvSpPr>
            <p:cNvPr id="173" name="Text Box 5"/>
            <p:cNvSpPr/>
            <p:nvPr/>
          </p:nvSpPr>
          <p:spPr>
            <a:xfrm>
              <a:off x="174600" y="2872080"/>
              <a:ext cx="77500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GNU debugger (not Microsoft/Apple-provide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2851560" y="2669760"/>
              <a:ext cx="501120" cy="20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271FF-1E24-4D71-B086-6CA670FEAB3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40C5D-C1C9-49C1-995D-7EADB7DD654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99A8C-2D3D-4DED-9AF6-C2E94662EC1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404D0-6105-414B-94F2-54BA48D8529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Line 4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4797360"/>
            <a:ext cx="3168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6A581-8DE6-4D26-BED7-6272B895419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8" name="Line 4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35BE4-2974-46A2-89A4-22CBF228123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77125-895B-47D1-A6AD-F437C543A45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976D3-9775-4569-9B8E-39141FF1691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10" name="Line 5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1CF60-0B19-452A-B0AD-1481E27DB3E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52D22-F73D-4E51-A083-2ACB63E8480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(1.0 Draft or 2.0) and the slides if you need additional information during the exerci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50D8F-867C-41BC-9F87-EACFD276D5D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8BB8C-0D06-4204-94D7-F7B4CFA97F5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A5F55-63BC-465C-9FF9-4C45975C55F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C65A6-C878-488C-9A5D-CF69C994A37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B077E-9D4F-4402-95EF-CA47293335D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E580E-8927-46DB-9883-8A115772710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1E309-910E-412B-B92D-821A32AE54E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4FF00-B716-44DC-AF98-E26F1BB5159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C1E83-4FE6-46F4-A39A-6D0ADA2168F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2C799-B232-46C8-8920-0A35032F544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EFD0B-6C10-41F7-8C18-EB8033EBE7D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0B342-E4B5-42DA-8507-3FF9F81D5CB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B62FB-6915-4FA8-A4AB-5004CBA16CD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ort  install depends:openmodelica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2F5C1-BC15-4355-8ACB-FCB856EF52B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9CA45-A763-4C9B-87A6-EF94D4C8936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1DE2D-E9DA-471C-AD0A-D61A63A257A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7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MEdit connection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ew version in OpenModelica 1.8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BEF95-F194-4349-A892-FF740952C44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OpenModelica 1.7.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Currently implemented in 194 000 lines of MetaModelica (excl. generated code, external C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77469-A0D9-4391-98ED-8C5D94605B8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DB883-2A0B-415B-82D3-837D6A854BA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03040" y="765000"/>
          <a:ext cx="8510760" cy="24054120"/>
        </p:xfrm>
        <a:graphic>
          <a:graphicData uri="http://schemas.openxmlformats.org/drawingml/2006/table">
            <a:tbl>
              <a:tblPr/>
              <a:tblGrid>
                <a:gridCol w="3237120"/>
                <a:gridCol w="5273640"/>
              </a:tblGrid>
              <a:tr h="4921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5A416-6AB4-4265-8BB9-1590C1738B6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op of the Qt4 GUI library, portable between Windows, Linux, M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2B5B1-6960-453A-9A20-AD2DAAFB2D9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F2AE9-A316-4799-A10D-BBDD5D2E276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BE5B5-D459-45E8-8A00-89592F6E17D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09ED3-6F0B-4D76-989C-A87FAB54408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5871E-3319-4E0D-B9EF-984A1B918F4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DAD55-FCC0-4E0F-AA6B-B38C6FF4E0A6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97349-7A12-4819-A8CF-BE510EA76E4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D9A1E-BE0D-456C-AD4A-9E4DF05B020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olund</cp:lastModifiedBy>
  <cp:lastPrinted>2001-06-05T14:43:50Z</cp:lastPrinted>
  <dcterms:modified xsi:type="dcterms:W3CDTF">2011-09-17T10:39:23Z</dcterms:modified>
  <cp:revision>69</cp:revision>
  <dc:subject>MetaModelica</dc:subject>
  <dc:title>MetaModelica Tutorial and Exercises</dc:title>
</cp:coreProperties>
</file>