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7.png" ContentType="image/png"/>
  <Override PartName="/ppt/media/image28.png" ContentType="image/png"/>
  <Override PartName="/ppt/media/image7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79708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344400" y="531720"/>
            <a:ext cx="355140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79708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8043571-253D-4384-A149-043BD9038A1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34476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enter the pipeline later if we have a clean point set, or points with oriented normals, or points with unoriented normal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CFFA-F34C-47A4-A6F4-B7350A5D6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E700-619F-4BA6-8985-7DB2F430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84D8-AD2F-4BC5-99D3-90AD7ECEF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F597-19BB-4D18-8B5A-DF0C099D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F361-E6F7-46F1-8804-446B181C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3F57-0C80-4F9D-9BF4-56FBAD0B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1D61-A6F5-4EE0-9BED-F70089CA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16FF-8DA1-4807-9E2E-6E22552A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2C1C-8D32-4C29-B6EF-35418596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A9B9-61AA-434C-AFA0-94DD2B2B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711A-A76A-4BCE-8F19-3DD707B9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D044-A8A0-4F3B-A654-DD093977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1FAE-7475-4C37-970A-903F4989C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png"/><Relationship Id="rId3" Type="http://schemas.openxmlformats.org/officeDocument/2006/relationships/image" Target="../media/image31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7K points sampled on an elephant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791240" y="1955880"/>
            <a:ext cx="4038480" cy="3813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1824120"/>
            <a:ext cx="3946680" cy="3983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60360" y="1600200"/>
            <a:ext cx="2432160" cy="2185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430960" y="1600200"/>
            <a:ext cx="2473200" cy="2185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258920" y="3938760"/>
            <a:ext cx="2433600" cy="2187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429160" y="3938760"/>
            <a:ext cx="2476440" cy="2187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255920" y="248904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55920" y="484200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457280"/>
            <a:ext cx="4495680" cy="4367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191120" y="1422360"/>
            <a:ext cx="4495680" cy="44290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71960" y="5921280"/>
            <a:ext cx="33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point set simplified to 1K then reconstru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50K points sampled on Neptune tr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points sampled on a sphere with flipped nor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3840" y="1925640"/>
            <a:ext cx="3832200" cy="3549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695840" y="1957320"/>
            <a:ext cx="3832200" cy="3490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070520" y="3803760"/>
            <a:ext cx="906120" cy="450720"/>
          </a:xfrm>
          <a:prstGeom prst="rightArrow">
            <a:avLst>
              <a:gd name="adj1" fmla="val 46481"/>
              <a:gd name="adj2" fmla="val 108440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897200"/>
            <a:ext cx="4038480" cy="3930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648320" y="1925640"/>
            <a:ext cx="4038480" cy="38750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5200" y="5807160"/>
            <a:ext cx="39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4K points sampled on a mechanical piece with sharp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2272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Poisson duration wrt #input points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25600" y="1052640"/>
            <a:ext cx="7886520" cy="55022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085840" y="1539720"/>
            <a:ext cx="18208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291960" y="2278080"/>
          <a:ext cx="8653680" cy="435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960" y="2278080"/>
                    <a:ext cx="865368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Surface meshing duration and error wrt approximation distance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rcRect l="18091" t="0" r="15193" b="0"/>
          <a:stretch/>
        </p:blipFill>
        <p:spPr>
          <a:xfrm>
            <a:off x="2209680" y="2711520"/>
            <a:ext cx="1352520" cy="1969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3767040" y="2711520"/>
            <a:ext cx="1265400" cy="19731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5237280" y="2709720"/>
            <a:ext cx="136188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998640" y="2155680"/>
          <a:ext cx="7140600" cy="431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8640" y="2155680"/>
                    <a:ext cx="7140600" cy="43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Memory wrt #input points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rcRect l="19516" t="0" r="16539" b="0"/>
          <a:stretch/>
        </p:blipFill>
        <p:spPr>
          <a:xfrm>
            <a:off x="2216160" y="2155680"/>
            <a:ext cx="149544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Reconstruction error wrt #input points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76360" y="2149560"/>
          <a:ext cx="8075520" cy="418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2149560"/>
                    <a:ext cx="8075520" cy="41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7" name="" descr=""/>
          <p:cNvPicPr/>
          <p:nvPr/>
        </p:nvPicPr>
        <p:blipFill>
          <a:blip r:embed="rId3"/>
          <a:srcRect l="19516" t="0" r="16539" b="0"/>
          <a:stretch/>
        </p:blipFill>
        <p:spPr>
          <a:xfrm>
            <a:off x="6437160" y="2714760"/>
            <a:ext cx="1495440" cy="2271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4292640" y="2798640"/>
            <a:ext cx="1401840" cy="2100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2049480" y="2778120"/>
            <a:ext cx="1500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70440" y="1868400"/>
            <a:ext cx="4038480" cy="3837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SS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7K points sampled on an elephant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1824120"/>
            <a:ext cx="3946680" cy="3983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rface_reconstruction_points_ 3 Pipeline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5316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1212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o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12120" y="370044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ace mesh gen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53160" y="3700440"/>
            <a:ext cx="1584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gebraic point set su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78560" y="3252960"/>
            <a:ext cx="17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37520" y="3252960"/>
            <a:ext cx="17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11760" y="1486080"/>
            <a:ext cx="319248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n points with oriented norm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5559840" y="223740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6142680" y="492336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7847640" y="492336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51360" y="5767560"/>
            <a:ext cx="1484640" cy="699840"/>
          </a:xfrm>
          <a:prstGeom prst="rect">
            <a:avLst/>
          </a:prstGeom>
          <a:solidFill>
            <a:srgbClr val="99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mplicit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10320" y="5767560"/>
            <a:ext cx="1492560" cy="699840"/>
          </a:xfrm>
          <a:prstGeom prst="rect">
            <a:avLst/>
          </a:prstGeom>
          <a:solidFill>
            <a:srgbClr val="99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urfac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iangle mes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1080" y="2948040"/>
            <a:ext cx="188892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44600" y="2948040"/>
            <a:ext cx="158292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0356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3652920"/>
            <a:ext cx="18892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unding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unding sp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o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spa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03560" y="3687840"/>
            <a:ext cx="1584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43160" y="3687840"/>
            <a:ext cx="17445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lier remo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70000" y="325296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27520" y="325296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3812040" y="223740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30720" y="1487520"/>
            <a:ext cx="1757160" cy="38268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n point s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8640" y="2255040"/>
            <a:ext cx="761760" cy="379440"/>
          </a:xfrm>
          <a:prstGeom prst="rightArrow">
            <a:avLst>
              <a:gd name="adj1" fmla="val 44769"/>
              <a:gd name="adj2" fmla="val 12798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1517760"/>
            <a:ext cx="131472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int s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0160" y="5987880"/>
            <a:ext cx="34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grayed out = in other CGAL packag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51120" y="5280120"/>
            <a:ext cx="273204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ints with unoriented norm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 rot="16200000">
            <a:off x="3980520" y="450828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417680"/>
            <a:ext cx="5616720" cy="45702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24640" y="2533680"/>
            <a:ext cx="1719360" cy="20034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5200" y="5807160"/>
            <a:ext cx="39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20K points sampled on child statue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20720" y="1417680"/>
            <a:ext cx="2676600" cy="3965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086360" y="1098720"/>
            <a:ext cx="4600440" cy="4468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20K points sampled on a statue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873080"/>
            <a:ext cx="4038480" cy="3978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8320" y="1901880"/>
            <a:ext cx="4038480" cy="3922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85960" y="552600"/>
            <a:ext cx="3369960" cy="3319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049720" y="552600"/>
            <a:ext cx="3417840" cy="33192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Poisson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55920" y="252720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55920" y="487980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336680" y="3938760"/>
            <a:ext cx="2724120" cy="2614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543640" y="3938760"/>
            <a:ext cx="268596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98280" y="1065240"/>
            <a:ext cx="5213160" cy="5137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730760" y="1106640"/>
            <a:ext cx="5213520" cy="5064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70K points with (emphasized) out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6540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0240" y="5749920"/>
            <a:ext cx="39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Bimba 120K reconstructed with distance = 0.15*average sp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5200" y="5730840"/>
            <a:ext cx="39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Bimba 120K reconstructed with distance = 0.25*average sp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7480" y="1677960"/>
            <a:ext cx="4532040" cy="3846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430880" y="1677960"/>
            <a:ext cx="453204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5200" y="580716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65K points sampled on a hand with no data at the wrist base (Kreon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2138400"/>
            <a:ext cx="4038480" cy="3449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48320" y="2138400"/>
            <a:ext cx="4038480" cy="3449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04172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8:28:39Z</dcterms:created>
  <dc:creator>Nader SALMAN</dc:creator>
  <dc:description/>
  <dc:language>en-US</dc:language>
  <cp:lastModifiedBy>Laurent Saboret</cp:lastModifiedBy>
  <dcterms:modified xsi:type="dcterms:W3CDTF">2009-08-24T15:42:02Z</dcterms:modified>
  <cp:revision>587</cp:revision>
  <dc:subject/>
  <dc:title>Slide 1</dc:title>
</cp:coreProperties>
</file>