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29D2DC8-73E4-4515-90A8-2248BB987E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F8B-9823-4E65-AD38-7DBF048F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05E-F781-4B2C-BF4C-6373C07C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BE0-D732-445F-A147-3362CB23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5CE2-B7A0-4494-98B7-657A6F30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D94-9C87-4674-B548-0BB416F5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908E-83E7-4824-AFA8-2ACE5F17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9D2-8D4E-4F63-9958-0E6F2C95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914-8195-49E9-B03E-175916FC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1D35-7C67-45A7-B5BE-356F0DDF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DFC-3D38-4F97-A08A-99B35374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04D-3DEC-4CF3-BEE6-3859A51D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A519-6426-43FB-95A7-F04610B6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390A-8591-4C1B-B077-F5F87DE49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91240" y="1955880"/>
            <a:ext cx="4038480" cy="38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24321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0960" y="1600200"/>
            <a:ext cx="247320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3938760"/>
            <a:ext cx="24336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29160" y="3938760"/>
            <a:ext cx="247644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248904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920" y="484200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449568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91120" y="142236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59212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simplified to 1K then re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50K points sampled on Neptune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points sampled on a sphere with flipped 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3840" y="1925640"/>
            <a:ext cx="3832200" cy="3549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95840" y="1957320"/>
            <a:ext cx="3832200" cy="34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70520" y="3803760"/>
            <a:ext cx="906120" cy="450720"/>
          </a:xfrm>
          <a:prstGeom prst="rightArrow">
            <a:avLst>
              <a:gd name="adj1" fmla="val 46481"/>
              <a:gd name="adj2" fmla="val 108440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4038480" cy="39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4038480" cy="3875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5200" y="580716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4K points sampled on a mechanical piece with sharp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2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 duration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1052640"/>
            <a:ext cx="7886520" cy="550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85840" y="1539720"/>
            <a:ext cx="182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91960" y="2278080"/>
          <a:ext cx="865368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278080"/>
                    <a:ext cx="865368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Surface meshing duration and error wrt approximation distanc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rcRect l="18091" t="0" r="15193" b="0"/>
          <a:stretch/>
        </p:blipFill>
        <p:spPr>
          <a:xfrm>
            <a:off x="2209680" y="2711520"/>
            <a:ext cx="1352520" cy="196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767040" y="2711520"/>
            <a:ext cx="126540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237280" y="2709720"/>
            <a:ext cx="1361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8640" y="2155680"/>
          <a:ext cx="7140600" cy="43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2155680"/>
                    <a:ext cx="71406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Memory wrt #input point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2216160" y="2155680"/>
            <a:ext cx="14954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Reconstruction error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76360" y="2149560"/>
          <a:ext cx="8075520" cy="41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149560"/>
                    <a:ext cx="80755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6437160" y="2714760"/>
            <a:ext cx="1495440" cy="22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92640" y="2798640"/>
            <a:ext cx="140184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049480" y="2778120"/>
            <a:ext cx="1500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0440" y="1868400"/>
            <a:ext cx="4038480" cy="383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S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_reconstruction_points_ 3 Pipelin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212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12120" y="37004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mesh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53160" y="37004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ebraic point set 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7856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37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1760" y="1486080"/>
            <a:ext cx="319248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 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55598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14268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84764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1360" y="5767560"/>
            <a:ext cx="148464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icit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0320" y="5767560"/>
            <a:ext cx="149256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rfac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angle me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4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3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43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752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812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0720" y="1487520"/>
            <a:ext cx="175716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64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17760"/>
            <a:ext cx="131472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51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6200000">
            <a:off x="3980520" y="450828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7680"/>
            <a:ext cx="5616720" cy="457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4640" y="2533680"/>
            <a:ext cx="1719360" cy="2003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200" y="5807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child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676600" cy="3965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86360" y="1098720"/>
            <a:ext cx="4600440" cy="446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a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038480" cy="397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01880"/>
            <a:ext cx="4038480" cy="39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5960" y="552600"/>
            <a:ext cx="3369960" cy="331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49720" y="552600"/>
            <a:ext cx="3417840" cy="3319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5920" y="25272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48798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3938760"/>
            <a:ext cx="2724120" cy="2614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43640" y="3938760"/>
            <a:ext cx="2685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98280" y="1065240"/>
            <a:ext cx="5213160" cy="513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30760" y="1106640"/>
            <a:ext cx="5213520" cy="506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70K points with (emphasized)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540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0240" y="5749920"/>
            <a:ext cx="39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Bimba 120K reconstructed with distance = 0.1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" y="573084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Bimba 120K reconstructed with distance = 0.2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480" y="1677960"/>
            <a:ext cx="4532040" cy="384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30880" y="1677960"/>
            <a:ext cx="4532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200" y="5807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65K points sampled on a hand with no data at the wrist base (Kreon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403848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13840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1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24T15:42:02Z</dcterms:modified>
  <cp:revision>587</cp:revision>
  <dc:subject/>
  <dc:title>Slide 1</dc:title>
</cp:coreProperties>
</file>